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020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7524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020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9020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480" y="17524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2800" y="17524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020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480" y="39020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2800" y="39020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7524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7524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020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7524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9020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7524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020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278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5817960" cy="130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-609480" y="6172200"/>
            <a:ext cx="9753480" cy="0"/>
          </a:xfrm>
          <a:prstGeom prst="line">
            <a:avLst/>
          </a:prstGeom>
          <a:ln w="9360">
            <a:solidFill>
              <a:srgbClr val="27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85a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80880" y="6324480"/>
            <a:ext cx="1676520" cy="37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65960" y="259092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785a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2785a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eutrophil_starting" descr=""/>
          <p:cNvPicPr/>
          <p:nvPr/>
        </p:nvPicPr>
        <p:blipFill>
          <a:blip r:embed="rId1"/>
          <a:srcRect l="3150" t="3150" r="3150" b="3150"/>
          <a:stretch/>
        </p:blipFill>
        <p:spPr>
          <a:xfrm>
            <a:off x="1824120" y="3424320"/>
            <a:ext cx="2143080" cy="2143080"/>
          </a:xfrm>
          <a:prstGeom prst="rect">
            <a:avLst/>
          </a:prstGeom>
          <a:ln w="57240">
            <a:solidFill>
              <a:srgbClr val="2785a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995040" y="1066680"/>
            <a:ext cx="370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785a0"/>
                </a:solidFill>
                <a:latin typeface="Arial"/>
              </a:rPr>
              <a:t>Luminesc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340000"/>
            <a:ext cx="1981440" cy="1905120"/>
          </a:xfrm>
          <a:prstGeom prst="rect">
            <a:avLst/>
          </a:prstGeom>
          <a:solidFill>
            <a:srgbClr val="e1e1ff"/>
          </a:solidFill>
          <a:ln w="57240">
            <a:solidFill>
              <a:srgbClr val="27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40120" y="2449440"/>
            <a:ext cx="1463400" cy="1644480"/>
            <a:chOff x="3840120" y="2449440"/>
            <a:chExt cx="1463400" cy="1644480"/>
          </a:xfrm>
        </p:grpSpPr>
        <p:sp>
          <p:nvSpPr>
            <p:cNvPr id="47" name=""/>
            <p:cNvSpPr/>
            <p:nvPr/>
          </p:nvSpPr>
          <p:spPr>
            <a:xfrm>
              <a:off x="3840120" y="2696040"/>
              <a:ext cx="1347840" cy="1397880"/>
            </a:xfrm>
            <a:prstGeom prst="ellipse">
              <a:avLst/>
            </a:prstGeom>
            <a:noFill/>
            <a:ln w="57240">
              <a:solidFill>
                <a:srgbClr val="bbe0e3"/>
              </a:solidFill>
              <a:miter/>
            </a:ln>
            <a:effectLst>
              <a:outerShdw dist="153753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95240" y="2449440"/>
              <a:ext cx="908280" cy="1151280"/>
            </a:xfrm>
            <a:custGeom>
              <a:avLst/>
              <a:gdLst/>
              <a:ahLst/>
              <a:rect l="l" t="t" r="r" b="b"/>
              <a:pathLst>
                <a:path w="1388" h="1565">
                  <a:moveTo>
                    <a:pt x="529" y="229"/>
                  </a:moveTo>
                  <a:lnTo>
                    <a:pt x="548" y="232"/>
                  </a:lnTo>
                  <a:lnTo>
                    <a:pt x="573" y="236"/>
                  </a:lnTo>
                  <a:lnTo>
                    <a:pt x="599" y="243"/>
                  </a:lnTo>
                  <a:lnTo>
                    <a:pt x="617" y="247"/>
                  </a:lnTo>
                  <a:lnTo>
                    <a:pt x="638" y="252"/>
                  </a:lnTo>
                  <a:lnTo>
                    <a:pt x="658" y="259"/>
                  </a:lnTo>
                  <a:lnTo>
                    <a:pt x="679" y="265"/>
                  </a:lnTo>
                  <a:lnTo>
                    <a:pt x="698" y="270"/>
                  </a:lnTo>
                  <a:lnTo>
                    <a:pt x="720" y="279"/>
                  </a:lnTo>
                  <a:lnTo>
                    <a:pt x="745" y="289"/>
                  </a:lnTo>
                  <a:lnTo>
                    <a:pt x="768" y="298"/>
                  </a:lnTo>
                  <a:lnTo>
                    <a:pt x="789" y="307"/>
                  </a:lnTo>
                  <a:lnTo>
                    <a:pt x="813" y="318"/>
                  </a:lnTo>
                  <a:lnTo>
                    <a:pt x="836" y="329"/>
                  </a:lnTo>
                  <a:lnTo>
                    <a:pt x="857" y="340"/>
                  </a:lnTo>
                  <a:lnTo>
                    <a:pt x="877" y="353"/>
                  </a:lnTo>
                  <a:lnTo>
                    <a:pt x="895" y="363"/>
                  </a:lnTo>
                  <a:lnTo>
                    <a:pt x="913" y="376"/>
                  </a:lnTo>
                  <a:lnTo>
                    <a:pt x="933" y="388"/>
                  </a:lnTo>
                  <a:lnTo>
                    <a:pt x="956" y="402"/>
                  </a:lnTo>
                  <a:lnTo>
                    <a:pt x="976" y="417"/>
                  </a:lnTo>
                  <a:lnTo>
                    <a:pt x="995" y="432"/>
                  </a:lnTo>
                  <a:lnTo>
                    <a:pt x="1013" y="446"/>
                  </a:lnTo>
                  <a:lnTo>
                    <a:pt x="1041" y="470"/>
                  </a:lnTo>
                  <a:lnTo>
                    <a:pt x="1071" y="497"/>
                  </a:lnTo>
                  <a:lnTo>
                    <a:pt x="1094" y="518"/>
                  </a:lnTo>
                  <a:lnTo>
                    <a:pt x="1121" y="549"/>
                  </a:lnTo>
                  <a:lnTo>
                    <a:pt x="1140" y="571"/>
                  </a:lnTo>
                  <a:lnTo>
                    <a:pt x="1161" y="597"/>
                  </a:lnTo>
                  <a:lnTo>
                    <a:pt x="1185" y="625"/>
                  </a:lnTo>
                  <a:lnTo>
                    <a:pt x="1204" y="653"/>
                  </a:lnTo>
                  <a:lnTo>
                    <a:pt x="1223" y="683"/>
                  </a:lnTo>
                  <a:lnTo>
                    <a:pt x="1243" y="713"/>
                  </a:lnTo>
                  <a:lnTo>
                    <a:pt x="1260" y="744"/>
                  </a:lnTo>
                  <a:lnTo>
                    <a:pt x="1276" y="772"/>
                  </a:lnTo>
                  <a:lnTo>
                    <a:pt x="1292" y="806"/>
                  </a:lnTo>
                  <a:lnTo>
                    <a:pt x="1307" y="838"/>
                  </a:lnTo>
                  <a:lnTo>
                    <a:pt x="1320" y="872"/>
                  </a:lnTo>
                  <a:lnTo>
                    <a:pt x="1332" y="909"/>
                  </a:lnTo>
                  <a:lnTo>
                    <a:pt x="1348" y="955"/>
                  </a:lnTo>
                  <a:lnTo>
                    <a:pt x="1359" y="997"/>
                  </a:lnTo>
                  <a:lnTo>
                    <a:pt x="1369" y="1040"/>
                  </a:lnTo>
                  <a:lnTo>
                    <a:pt x="1375" y="1082"/>
                  </a:lnTo>
                  <a:lnTo>
                    <a:pt x="1382" y="1132"/>
                  </a:lnTo>
                  <a:lnTo>
                    <a:pt x="1387" y="1193"/>
                  </a:lnTo>
                  <a:lnTo>
                    <a:pt x="1388" y="1241"/>
                  </a:lnTo>
                  <a:lnTo>
                    <a:pt x="1387" y="1288"/>
                  </a:lnTo>
                  <a:lnTo>
                    <a:pt x="1383" y="1334"/>
                  </a:lnTo>
                  <a:lnTo>
                    <a:pt x="1378" y="1376"/>
                  </a:lnTo>
                  <a:lnTo>
                    <a:pt x="1373" y="1420"/>
                  </a:lnTo>
                  <a:lnTo>
                    <a:pt x="1363" y="1466"/>
                  </a:lnTo>
                  <a:lnTo>
                    <a:pt x="1350" y="1514"/>
                  </a:lnTo>
                  <a:lnTo>
                    <a:pt x="1335" y="1565"/>
                  </a:lnTo>
                  <a:lnTo>
                    <a:pt x="1244" y="1282"/>
                  </a:lnTo>
                  <a:lnTo>
                    <a:pt x="897" y="1341"/>
                  </a:lnTo>
                  <a:lnTo>
                    <a:pt x="905" y="1292"/>
                  </a:lnTo>
                  <a:lnTo>
                    <a:pt x="908" y="1260"/>
                  </a:lnTo>
                  <a:lnTo>
                    <a:pt x="908" y="1226"/>
                  </a:lnTo>
                  <a:lnTo>
                    <a:pt x="906" y="1187"/>
                  </a:lnTo>
                  <a:lnTo>
                    <a:pt x="901" y="1150"/>
                  </a:lnTo>
                  <a:lnTo>
                    <a:pt x="893" y="1108"/>
                  </a:lnTo>
                  <a:lnTo>
                    <a:pt x="884" y="1074"/>
                  </a:lnTo>
                  <a:lnTo>
                    <a:pt x="869" y="1036"/>
                  </a:lnTo>
                  <a:lnTo>
                    <a:pt x="855" y="1003"/>
                  </a:lnTo>
                  <a:lnTo>
                    <a:pt x="838" y="972"/>
                  </a:lnTo>
                  <a:lnTo>
                    <a:pt x="824" y="947"/>
                  </a:lnTo>
                  <a:lnTo>
                    <a:pt x="809" y="927"/>
                  </a:lnTo>
                  <a:lnTo>
                    <a:pt x="794" y="907"/>
                  </a:lnTo>
                  <a:lnTo>
                    <a:pt x="777" y="887"/>
                  </a:lnTo>
                  <a:lnTo>
                    <a:pt x="758" y="866"/>
                  </a:lnTo>
                  <a:lnTo>
                    <a:pt x="742" y="851"/>
                  </a:lnTo>
                  <a:lnTo>
                    <a:pt x="724" y="833"/>
                  </a:lnTo>
                  <a:lnTo>
                    <a:pt x="706" y="817"/>
                  </a:lnTo>
                  <a:lnTo>
                    <a:pt x="685" y="802"/>
                  </a:lnTo>
                  <a:lnTo>
                    <a:pt x="660" y="786"/>
                  </a:lnTo>
                  <a:lnTo>
                    <a:pt x="639" y="771"/>
                  </a:lnTo>
                  <a:lnTo>
                    <a:pt x="621" y="761"/>
                  </a:lnTo>
                  <a:lnTo>
                    <a:pt x="594" y="746"/>
                  </a:lnTo>
                  <a:lnTo>
                    <a:pt x="571" y="737"/>
                  </a:lnTo>
                  <a:lnTo>
                    <a:pt x="551" y="730"/>
                  </a:lnTo>
                  <a:lnTo>
                    <a:pt x="530" y="722"/>
                  </a:lnTo>
                  <a:lnTo>
                    <a:pt x="498" y="715"/>
                  </a:lnTo>
                  <a:lnTo>
                    <a:pt x="469" y="710"/>
                  </a:lnTo>
                  <a:lnTo>
                    <a:pt x="438" y="706"/>
                  </a:lnTo>
                  <a:lnTo>
                    <a:pt x="408" y="704"/>
                  </a:lnTo>
                  <a:lnTo>
                    <a:pt x="391" y="703"/>
                  </a:lnTo>
                  <a:lnTo>
                    <a:pt x="391" y="958"/>
                  </a:lnTo>
                  <a:lnTo>
                    <a:pt x="0" y="486"/>
                  </a:lnTo>
                  <a:lnTo>
                    <a:pt x="390" y="0"/>
                  </a:lnTo>
                  <a:lnTo>
                    <a:pt x="390" y="219"/>
                  </a:lnTo>
                  <a:lnTo>
                    <a:pt x="411" y="220"/>
                  </a:lnTo>
                  <a:lnTo>
                    <a:pt x="441" y="221"/>
                  </a:lnTo>
                  <a:lnTo>
                    <a:pt x="473" y="223"/>
                  </a:lnTo>
                  <a:lnTo>
                    <a:pt x="504" y="226"/>
                  </a:lnTo>
                  <a:lnTo>
                    <a:pt x="529" y="229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  <a:effectLst>
              <a:outerShdw dist="153753" dir="2700000" blurRad="0" rotWithShape="0">
                <a:srgbClr val="984a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952880" y="4152960"/>
            <a:ext cx="1422360" cy="1332000"/>
          </a:xfrm>
          <a:prstGeom prst="rect">
            <a:avLst/>
          </a:prstGeom>
          <a:solidFill>
            <a:srgbClr val="e1e1ff"/>
          </a:solidFill>
          <a:ln w="57240">
            <a:solidFill>
              <a:srgbClr val="278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2944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68960" y="4308480"/>
            <a:ext cx="790560" cy="1109160"/>
            <a:chOff x="5268960" y="4308480"/>
            <a:chExt cx="790560" cy="1109160"/>
          </a:xfrm>
        </p:grpSpPr>
        <p:grpSp>
          <p:nvGrpSpPr>
            <p:cNvPr id="52" name=""/>
            <p:cNvGrpSpPr/>
            <p:nvPr/>
          </p:nvGrpSpPr>
          <p:grpSpPr>
            <a:xfrm>
              <a:off x="5268960" y="4530240"/>
              <a:ext cx="790560" cy="887400"/>
              <a:chOff x="5268960" y="4530240"/>
              <a:chExt cx="790560" cy="887400"/>
            </a:xfrm>
          </p:grpSpPr>
          <p:sp>
            <p:nvSpPr>
              <p:cNvPr id="53" name=""/>
              <p:cNvSpPr/>
              <p:nvPr/>
            </p:nvSpPr>
            <p:spPr>
              <a:xfrm>
                <a:off x="5268960" y="4530240"/>
                <a:ext cx="790560" cy="835560"/>
              </a:xfrm>
              <a:prstGeom prst="can">
                <a:avLst>
                  <a:gd name="adj" fmla="val 25000"/>
                </a:avLst>
              </a:prstGeom>
              <a:solidFill>
                <a:srgbClr val="99cc00"/>
              </a:solidFill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268960" y="5209200"/>
                <a:ext cx="790560" cy="208440"/>
              </a:xfrm>
              <a:prstGeom prst="ellipse">
                <a:avLst/>
              </a:prstGeom>
              <a:solidFill>
                <a:srgbClr val="99cc00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 txBox="1"/>
            <p:nvPr/>
          </p:nvSpPr>
          <p:spPr>
            <a:xfrm>
              <a:off x="5427000" y="5107320"/>
              <a:ext cx="158040" cy="28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Y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796000" y="5063040"/>
              <a:ext cx="158040" cy="28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Y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4200">
              <a:off x="5544000" y="4908600"/>
              <a:ext cx="132120" cy="262440"/>
            </a:xfrm>
            <a:prstGeom prst="pentagon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 rot="11533800">
              <a:off x="5584320" y="4707000"/>
              <a:ext cx="158040" cy="28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Y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374440" y="4308480"/>
              <a:ext cx="579600" cy="488160"/>
              <a:chOff x="5374440" y="4308480"/>
              <a:chExt cx="579600" cy="488160"/>
            </a:xfrm>
          </p:grpSpPr>
          <p:sp>
            <p:nvSpPr>
              <p:cNvPr id="60" name=""/>
              <p:cNvSpPr/>
              <p:nvPr/>
            </p:nvSpPr>
            <p:spPr>
              <a:xfrm>
                <a:off x="5532480" y="4441320"/>
                <a:ext cx="263160" cy="2217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585040" y="4485600"/>
                <a:ext cx="158040" cy="1328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479560" y="4397040"/>
                <a:ext cx="369000" cy="31068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74440" y="4308480"/>
                <a:ext cx="579600" cy="4881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08560" y="2057400"/>
            <a:ext cx="3124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Detection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(from kit informa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62040" y="1219320"/>
            <a:ext cx="4335840" cy="4380480"/>
            <a:chOff x="662040" y="1219320"/>
            <a:chExt cx="4335840" cy="4380480"/>
          </a:xfrm>
        </p:grpSpPr>
        <p:sp>
          <p:nvSpPr>
            <p:cNvPr id="275" name=""/>
            <p:cNvSpPr/>
            <p:nvPr/>
          </p:nvSpPr>
          <p:spPr>
            <a:xfrm rot="16200000">
              <a:off x="-847800" y="2729160"/>
              <a:ext cx="34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log light inten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60320" y="52009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og ATP [mol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283400" y="2124360"/>
              <a:ext cx="3714480" cy="3011400"/>
              <a:chOff x="1283400" y="2124360"/>
              <a:chExt cx="3714480" cy="3011400"/>
            </a:xfrm>
          </p:grpSpPr>
          <p:sp>
            <p:nvSpPr>
              <p:cNvPr id="278" name=""/>
              <p:cNvSpPr/>
              <p:nvPr/>
            </p:nvSpPr>
            <p:spPr>
              <a:xfrm>
                <a:off x="1932840" y="2219400"/>
                <a:ext cx="2985840" cy="256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32840" y="4415040"/>
                <a:ext cx="298584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32840" y="4048200"/>
                <a:ext cx="298584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32840" y="3679920"/>
                <a:ext cx="298584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32840" y="3321360"/>
                <a:ext cx="298584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32840" y="2953080"/>
                <a:ext cx="298584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2840" y="2586240"/>
                <a:ext cx="298584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32840" y="2219400"/>
                <a:ext cx="298584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32840" y="2219400"/>
                <a:ext cx="2985840" cy="256248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32840" y="2219400"/>
                <a:ext cx="1440" cy="25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79200" y="4781880"/>
                <a:ext cx="53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79200" y="4415040"/>
                <a:ext cx="53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79200" y="4048200"/>
                <a:ext cx="53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79200" y="3679920"/>
                <a:ext cx="53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79200" y="3321360"/>
                <a:ext cx="53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79200" y="2953080"/>
                <a:ext cx="53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79200" y="2586240"/>
                <a:ext cx="53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79200" y="2219400"/>
                <a:ext cx="53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32840" y="4781880"/>
                <a:ext cx="298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932840" y="4781880"/>
                <a:ext cx="144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31640" y="4781880"/>
                <a:ext cx="108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530080" y="4781880"/>
                <a:ext cx="108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828520" y="4781880"/>
                <a:ext cx="108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126960" y="4781880"/>
                <a:ext cx="108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425400" y="4781880"/>
                <a:ext cx="108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723840" y="4781880"/>
                <a:ext cx="108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023720" y="4781880"/>
                <a:ext cx="144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4322160" y="4781880"/>
                <a:ext cx="144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4620600" y="4781880"/>
                <a:ext cx="144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919040" y="4781880"/>
                <a:ext cx="144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83400" y="468648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83400" y="431964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83400" y="395316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83400" y="358632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83400" y="322596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83400" y="285948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83400" y="249084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283400" y="2124360"/>
                <a:ext cx="52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1,E+0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908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1752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8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1596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1440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1284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28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0972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0816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0660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05040" y="493740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51000" y="493740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-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2287080" y="2416320"/>
                <a:ext cx="1748880" cy="2175120"/>
              </a:xfrm>
              <a:prstGeom prst="line">
                <a:avLst/>
              </a:prstGeom>
              <a:ln w="41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788560" y="2416320"/>
                <a:ext cx="1682640" cy="2113200"/>
              </a:xfrm>
              <a:prstGeom prst="line">
                <a:avLst/>
              </a:prstGeom>
              <a:ln w="414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147480" y="2525760"/>
                <a:ext cx="1587240" cy="2003760"/>
              </a:xfrm>
              <a:prstGeom prst="line">
                <a:avLst/>
              </a:prstGeom>
              <a:ln w="414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79520" y="5210280"/>
            <a:ext cx="1331640" cy="542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3400" y="5243400"/>
            <a:ext cx="86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TP Reagent S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560" y="5421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4120" y="5597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TP Reaent 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5618160"/>
            <a:ext cx="95040" cy="64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5311800"/>
            <a:ext cx="95040" cy="1440"/>
          </a:xfrm>
          <a:prstGeom prst="line">
            <a:avLst/>
          </a:prstGeom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08560" y="3124080"/>
            <a:ext cx="3390120" cy="785520"/>
            <a:chOff x="5308560" y="3124080"/>
            <a:chExt cx="3390120" cy="785520"/>
          </a:xfrm>
        </p:grpSpPr>
        <p:sp>
          <p:nvSpPr>
            <p:cNvPr id="337" name=""/>
            <p:cNvSpPr/>
            <p:nvPr/>
          </p:nvSpPr>
          <p:spPr>
            <a:xfrm>
              <a:off x="5308560" y="3130200"/>
              <a:ext cx="23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ble Light  Assay 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64600" y="3124080"/>
              <a:ext cx="123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1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 f m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>
            <a:off x="3311640" y="3954600"/>
            <a:ext cx="1946160" cy="5634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62120" y="13716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action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410080" y="5029200"/>
            <a:ext cx="3505320" cy="996120"/>
            <a:chOff x="5410080" y="5029200"/>
            <a:chExt cx="3505320" cy="996120"/>
          </a:xfrm>
        </p:grpSpPr>
        <p:sp>
          <p:nvSpPr>
            <p:cNvPr id="343" name=""/>
            <p:cNvSpPr/>
            <p:nvPr/>
          </p:nvSpPr>
          <p:spPr>
            <a:xfrm>
              <a:off x="5410080" y="5108400"/>
              <a:ext cx="35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P reaction is us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characteriz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ction limit of lumino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8720" y="5029200"/>
              <a:ext cx="711000" cy="612720"/>
            </a:xfrm>
            <a:prstGeom prst="triangle">
              <a:avLst>
                <a:gd name="adj" fmla="val 50000"/>
              </a:avLst>
            </a:prstGeom>
            <a:solidFill>
              <a:srgbClr val="278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334120" y="4038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Sensitive Assay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5040" y="45180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1 a mo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14800" y="3914640"/>
            <a:ext cx="4645080" cy="85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137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39337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ustomers use commercial glow type assay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8600" y="2895480"/>
            <a:ext cx="3749760" cy="2613240"/>
            <a:chOff x="228600" y="2895480"/>
            <a:chExt cx="3749760" cy="2613240"/>
          </a:xfrm>
        </p:grpSpPr>
        <p:sp>
          <p:nvSpPr>
            <p:cNvPr id="351" name=""/>
            <p:cNvSpPr/>
            <p:nvPr/>
          </p:nvSpPr>
          <p:spPr>
            <a:xfrm>
              <a:off x="3794040" y="3241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95480" y="5105520"/>
              <a:ext cx="924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28600" y="2895480"/>
              <a:ext cx="3260880" cy="2035440"/>
              <a:chOff x="228600" y="2895480"/>
              <a:chExt cx="3260880" cy="2035440"/>
            </a:xfrm>
          </p:grpSpPr>
          <p:sp>
            <p:nvSpPr>
              <p:cNvPr id="354" name=""/>
              <p:cNvSpPr/>
              <p:nvPr/>
            </p:nvSpPr>
            <p:spPr>
              <a:xfrm>
                <a:off x="228600" y="2895480"/>
                <a:ext cx="14479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RLU/sec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960480" y="349092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60480" y="4930920"/>
                <a:ext cx="252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12680" y="3870360"/>
                <a:ext cx="2284560" cy="1055520"/>
              </a:xfrm>
              <a:custGeom>
                <a:avLst/>
                <a:gdLst/>
                <a:ahLst/>
                <a:rect l="l" t="t" r="r" b="b"/>
                <a:pathLst>
                  <a:path w="2679" h="1045">
                    <a:moveTo>
                      <a:pt x="0" y="1045"/>
                    </a:moveTo>
                    <a:cubicBezTo>
                      <a:pt x="19" y="703"/>
                      <a:pt x="38" y="361"/>
                      <a:pt x="114" y="190"/>
                    </a:cubicBezTo>
                    <a:cubicBezTo>
                      <a:pt x="190" y="19"/>
                      <a:pt x="29" y="38"/>
                      <a:pt x="456" y="19"/>
                    </a:cubicBezTo>
                    <a:cubicBezTo>
                      <a:pt x="883" y="0"/>
                      <a:pt x="2309" y="67"/>
                      <a:pt x="2679" y="76"/>
                    </a:cubicBezTo>
                  </a:path>
                </a:pathLst>
              </a:custGeom>
              <a:noFill/>
              <a:ln w="381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76440" y="3013200"/>
                <a:ext cx="99072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2785a0"/>
                    </a:solidFill>
                    <a:latin typeface="Arial"/>
                  </a:rPr>
                  <a:t>Glow 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361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363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139640" y="12193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228600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w type assays do not need inj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ectors are recommend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re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nsitive flash type a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lex assays with several reaction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3330360" y="4108320"/>
            <a:ext cx="282600" cy="644400"/>
          </a:xfrm>
          <a:prstGeom prst="triangle">
            <a:avLst>
              <a:gd name="adj" fmla="val 50000"/>
            </a:avLst>
          </a:prstGeom>
          <a:solidFill>
            <a:srgbClr val="278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3429000"/>
            <a:ext cx="2286000" cy="2057400"/>
          </a:xfrm>
          <a:prstGeom prst="ellipse">
            <a:avLst/>
          </a:prstGeom>
          <a:solidFill>
            <a:srgbClr val="278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o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se utmost c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386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388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96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4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rot="5400000">
            <a:off x="3330360" y="2270160"/>
            <a:ext cx="282600" cy="644400"/>
          </a:xfrm>
          <a:prstGeom prst="triangle">
            <a:avLst>
              <a:gd name="adj" fmla="val 50000"/>
            </a:avLst>
          </a:prstGeom>
          <a:solidFill>
            <a:srgbClr val="278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54600" y="115740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General ATP and Biomass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57080" y="3949560"/>
            <a:ext cx="843120" cy="479520"/>
            <a:chOff x="757080" y="3949560"/>
            <a:chExt cx="843120" cy="479520"/>
          </a:xfrm>
        </p:grpSpPr>
        <p:sp>
          <p:nvSpPr>
            <p:cNvPr id="409" name=""/>
            <p:cNvSpPr/>
            <p:nvPr/>
          </p:nvSpPr>
          <p:spPr>
            <a:xfrm>
              <a:off x="757080" y="3949560"/>
              <a:ext cx="843120" cy="4795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97480" y="415476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67680" y="4223520"/>
              <a:ext cx="70200" cy="33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38240" y="429192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84120" y="425772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13920" y="4120920"/>
              <a:ext cx="70200" cy="33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48840" y="405216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08440" y="408636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43360" y="418932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743200" y="3133800"/>
            <a:ext cx="166680" cy="968400"/>
          </a:xfrm>
          <a:prstGeom prst="can">
            <a:avLst>
              <a:gd name="adj" fmla="val 7041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030560"/>
            <a:ext cx="166680" cy="93600"/>
          </a:xfrm>
          <a:prstGeom prst="can">
            <a:avLst>
              <a:gd name="adj" fmla="val 25597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47800" y="4086360"/>
            <a:ext cx="690480" cy="266400"/>
          </a:xfrm>
          <a:custGeom>
            <a:avLst/>
            <a:gdLst>
              <a:gd name="textAreaLeft" fmla="*/ 120600 w 690480"/>
              <a:gd name="textAreaRight" fmla="*/ 500760 w 690480"/>
              <a:gd name="textAreaTop" fmla="*/ 35640 h 266400"/>
              <a:gd name="textAreaBottom" fmla="*/ 230760 h 26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93480" y="2355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iqu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-2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4600" y="3133800"/>
            <a:ext cx="166680" cy="968400"/>
          </a:xfrm>
          <a:prstGeom prst="can">
            <a:avLst>
              <a:gd name="adj" fmla="val 7041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14600" y="3906720"/>
            <a:ext cx="166680" cy="217440"/>
          </a:xfrm>
          <a:prstGeom prst="can">
            <a:avLst>
              <a:gd name="adj" fmla="val 25597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2600280"/>
            <a:ext cx="152280" cy="397080"/>
          </a:xfrm>
          <a:prstGeom prst="downArrow">
            <a:avLst>
              <a:gd name="adj1" fmla="val 50000"/>
              <a:gd name="adj2" fmla="val 6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60480" y="2362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sis re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-10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4160"/>
            <a:ext cx="609480" cy="136800"/>
          </a:xfrm>
          <a:prstGeom prst="rightArrow">
            <a:avLst>
              <a:gd name="adj1" fmla="val 50000"/>
              <a:gd name="adj2" fmla="val 111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43671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96040" y="3133800"/>
            <a:ext cx="166680" cy="968400"/>
          </a:xfrm>
          <a:prstGeom prst="can">
            <a:avLst>
              <a:gd name="adj" fmla="val 7041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6040" y="3906720"/>
            <a:ext cx="166680" cy="217440"/>
          </a:xfrm>
          <a:prstGeom prst="can">
            <a:avLst>
              <a:gd name="adj" fmla="val 25597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2600280"/>
            <a:ext cx="152640" cy="397080"/>
          </a:xfrm>
          <a:prstGeom prst="downArrow">
            <a:avLst>
              <a:gd name="adj1" fmla="val 50000"/>
              <a:gd name="adj2" fmla="val 65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74760" y="24066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P-Re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-10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858000" y="3551400"/>
            <a:ext cx="995400" cy="877680"/>
            <a:chOff x="6858000" y="3551400"/>
            <a:chExt cx="995400" cy="877680"/>
          </a:xfrm>
        </p:grpSpPr>
        <p:sp>
          <p:nvSpPr>
            <p:cNvPr id="433" name=""/>
            <p:cNvSpPr/>
            <p:nvPr/>
          </p:nvSpPr>
          <p:spPr>
            <a:xfrm flipV="1">
              <a:off x="6858000" y="3587040"/>
              <a:ext cx="360" cy="84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0" y="4428360"/>
              <a:ext cx="9954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74560" y="3913920"/>
              <a:ext cx="899280" cy="514080"/>
            </a:xfrm>
            <a:custGeom>
              <a:avLst/>
              <a:gdLst/>
              <a:ahLst/>
              <a:rect l="l" t="t" r="r" b="b"/>
              <a:pathLst>
                <a:path w="2679" h="1045">
                  <a:moveTo>
                    <a:pt x="0" y="1045"/>
                  </a:moveTo>
                  <a:cubicBezTo>
                    <a:pt x="19" y="703"/>
                    <a:pt x="38" y="361"/>
                    <a:pt x="114" y="190"/>
                  </a:cubicBezTo>
                  <a:cubicBezTo>
                    <a:pt x="190" y="19"/>
                    <a:pt x="29" y="38"/>
                    <a:pt x="456" y="19"/>
                  </a:cubicBezTo>
                  <a:cubicBezTo>
                    <a:pt x="883" y="0"/>
                    <a:pt x="2309" y="67"/>
                    <a:pt x="2679" y="76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74560" y="3551400"/>
              <a:ext cx="633600" cy="841320"/>
            </a:xfrm>
            <a:custGeom>
              <a:avLst/>
              <a:gdLst/>
              <a:ahLst/>
              <a:rect l="l" t="t" r="r" b="b"/>
              <a:pathLst>
                <a:path w="2394" h="1947">
                  <a:moveTo>
                    <a:pt x="0" y="1938"/>
                  </a:moveTo>
                  <a:cubicBezTo>
                    <a:pt x="38" y="1553"/>
                    <a:pt x="76" y="1169"/>
                    <a:pt x="114" y="855"/>
                  </a:cubicBezTo>
                  <a:cubicBezTo>
                    <a:pt x="152" y="541"/>
                    <a:pt x="124" y="0"/>
                    <a:pt x="228" y="57"/>
                  </a:cubicBezTo>
                  <a:cubicBezTo>
                    <a:pt x="332" y="114"/>
                    <a:pt x="503" y="902"/>
                    <a:pt x="741" y="1197"/>
                  </a:cubicBezTo>
                  <a:cubicBezTo>
                    <a:pt x="979" y="1492"/>
                    <a:pt x="1378" y="1701"/>
                    <a:pt x="1653" y="1824"/>
                  </a:cubicBezTo>
                  <a:cubicBezTo>
                    <a:pt x="1928" y="1947"/>
                    <a:pt x="2271" y="1919"/>
                    <a:pt x="2394" y="193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632280" y="45957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9960" y="34527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64280" y="3666960"/>
            <a:ext cx="450720" cy="43992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2679840" y="4581360"/>
            <a:ext cx="1035000" cy="72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rcRect l="15687" t="23368" r="21629" b="16048"/>
          <a:stretch/>
        </p:blipFill>
        <p:spPr>
          <a:xfrm>
            <a:off x="5257800" y="4581360"/>
            <a:ext cx="1035000" cy="725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950080" y="4429080"/>
            <a:ext cx="450720" cy="43992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3048120"/>
            <a:ext cx="1371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3048120"/>
            <a:ext cx="1371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528480" y="3430440"/>
            <a:ext cx="1035360" cy="72576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1401840" y="4321080"/>
            <a:ext cx="842760" cy="479520"/>
            <a:chOff x="1401840" y="4321080"/>
            <a:chExt cx="842760" cy="479520"/>
          </a:xfrm>
        </p:grpSpPr>
        <p:sp>
          <p:nvSpPr>
            <p:cNvPr id="448" name=""/>
            <p:cNvSpPr/>
            <p:nvPr/>
          </p:nvSpPr>
          <p:spPr>
            <a:xfrm>
              <a:off x="1401840" y="4321080"/>
              <a:ext cx="842760" cy="4795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2240" y="4526280"/>
              <a:ext cx="6984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12440" y="4595040"/>
              <a:ext cx="70200" cy="33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82640" y="4663440"/>
              <a:ext cx="6984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28520" y="4629240"/>
              <a:ext cx="7020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320" y="4492440"/>
              <a:ext cx="69840" cy="33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93600" y="4423680"/>
              <a:ext cx="6984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52840" y="4457880"/>
              <a:ext cx="6984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8120" y="4560840"/>
              <a:ext cx="69840" cy="342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438280" y="4068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427040" y="406836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371240" y="4068360"/>
            <a:ext cx="4158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354492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368784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384012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399240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5160" y="30067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ed cells, add eff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31320" y="3438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rcRect l="15687" t="23368" r="21629" b="16048"/>
          <a:stretch/>
        </p:blipFill>
        <p:spPr>
          <a:xfrm>
            <a:off x="3463920" y="3137040"/>
            <a:ext cx="1035000" cy="7254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489480" y="2603520"/>
            <a:ext cx="152280" cy="396720"/>
          </a:xfrm>
          <a:prstGeom prst="downArrow">
            <a:avLst>
              <a:gd name="adj1" fmla="val 50000"/>
              <a:gd name="adj2" fmla="val 651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44640" y="245124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sis re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97360" y="3243240"/>
            <a:ext cx="609840" cy="136440"/>
          </a:xfrm>
          <a:prstGeom prst="rightArrow">
            <a:avLst>
              <a:gd name="adj1" fmla="val 50000"/>
              <a:gd name="adj2" fmla="val 1117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59400" y="33796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rcRect l="15687" t="23368" r="21629" b="16048"/>
          <a:stretch/>
        </p:blipFill>
        <p:spPr>
          <a:xfrm>
            <a:off x="5813280" y="3137040"/>
            <a:ext cx="1035360" cy="7254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813280" y="2658960"/>
            <a:ext cx="152640" cy="397080"/>
          </a:xfrm>
          <a:prstGeom prst="downArrow">
            <a:avLst>
              <a:gd name="adj1" fmla="val 50000"/>
              <a:gd name="adj2" fmla="val 65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23880" y="24955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P-Re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 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rcRect l="15687" t="23368" r="21629" b="16048"/>
          <a:stretch/>
        </p:blipFill>
        <p:spPr>
          <a:xfrm>
            <a:off x="3463920" y="4965840"/>
            <a:ext cx="1035000" cy="725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489480" y="4518000"/>
            <a:ext cx="152280" cy="397080"/>
          </a:xfrm>
          <a:prstGeom prst="downArrow">
            <a:avLst>
              <a:gd name="adj1" fmla="val 50000"/>
              <a:gd name="adj2" fmla="val 6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43920" y="435600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sis +ATP re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 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97360" y="5072040"/>
            <a:ext cx="609840" cy="136440"/>
          </a:xfrm>
          <a:prstGeom prst="rightArrow">
            <a:avLst>
              <a:gd name="adj1" fmla="val 50000"/>
              <a:gd name="adj2" fmla="val 1117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59400" y="5208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767720" y="4813200"/>
            <a:ext cx="995400" cy="841320"/>
            <a:chOff x="7767720" y="4813200"/>
            <a:chExt cx="995400" cy="841320"/>
          </a:xfrm>
        </p:grpSpPr>
        <p:sp>
          <p:nvSpPr>
            <p:cNvPr id="480" name=""/>
            <p:cNvSpPr/>
            <p:nvPr/>
          </p:nvSpPr>
          <p:spPr>
            <a:xfrm flipV="1">
              <a:off x="7767720" y="4813200"/>
              <a:ext cx="0" cy="83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67720" y="5652720"/>
              <a:ext cx="9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24680" y="5130720"/>
              <a:ext cx="758880" cy="45720"/>
            </a:xfrm>
            <a:custGeom>
              <a:avLst/>
              <a:gdLst/>
              <a:ahLst/>
              <a:rect l="l" t="t" r="r" b="b"/>
              <a:pathLst>
                <a:path w="478" h="29">
                  <a:moveTo>
                    <a:pt x="0" y="10"/>
                  </a:moveTo>
                  <a:cubicBezTo>
                    <a:pt x="14" y="9"/>
                    <a:pt x="45" y="5"/>
                    <a:pt x="78" y="4"/>
                  </a:cubicBezTo>
                  <a:cubicBezTo>
                    <a:pt x="111" y="3"/>
                    <a:pt x="131" y="0"/>
                    <a:pt x="198" y="4"/>
                  </a:cubicBezTo>
                  <a:cubicBezTo>
                    <a:pt x="265" y="8"/>
                    <a:pt x="420" y="24"/>
                    <a:pt x="478" y="29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728520" y="1157400"/>
            <a:ext cx="51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Cell Viability/Toxicity 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30880" y="5805360"/>
            <a:ext cx="46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 called „homogenous assays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00640" y="5083200"/>
            <a:ext cx="609840" cy="136440"/>
          </a:xfrm>
          <a:prstGeom prst="rightArrow">
            <a:avLst>
              <a:gd name="adj1" fmla="val 50000"/>
              <a:gd name="adj2" fmla="val 1117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00680" y="52196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for 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362320"/>
            <a:ext cx="5562720" cy="15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60600" y="4267080"/>
            <a:ext cx="5554800" cy="158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83240" y="3938760"/>
            <a:ext cx="1575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9560" y="3522600"/>
            <a:ext cx="450720" cy="43992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70640" y="4915080"/>
            <a:ext cx="450720" cy="43956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76440" y="2057400"/>
            <a:ext cx="34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72160" y="206676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86160" y="403848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58120" y="50832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 -10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10480" y="2895480"/>
            <a:ext cx="995400" cy="878040"/>
            <a:chOff x="7710480" y="2895480"/>
            <a:chExt cx="995400" cy="878040"/>
          </a:xfrm>
        </p:grpSpPr>
        <p:sp>
          <p:nvSpPr>
            <p:cNvPr id="497" name=""/>
            <p:cNvSpPr/>
            <p:nvPr/>
          </p:nvSpPr>
          <p:spPr>
            <a:xfrm flipV="1">
              <a:off x="7710480" y="2931480"/>
              <a:ext cx="360" cy="84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10480" y="3772800"/>
              <a:ext cx="9954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27040" y="3258000"/>
              <a:ext cx="899280" cy="514440"/>
            </a:xfrm>
            <a:custGeom>
              <a:avLst/>
              <a:gdLst/>
              <a:ahLst/>
              <a:rect l="l" t="t" r="r" b="b"/>
              <a:pathLst>
                <a:path w="2679" h="1045">
                  <a:moveTo>
                    <a:pt x="0" y="1045"/>
                  </a:moveTo>
                  <a:cubicBezTo>
                    <a:pt x="19" y="703"/>
                    <a:pt x="38" y="361"/>
                    <a:pt x="114" y="190"/>
                  </a:cubicBezTo>
                  <a:cubicBezTo>
                    <a:pt x="190" y="19"/>
                    <a:pt x="29" y="38"/>
                    <a:pt x="456" y="19"/>
                  </a:cubicBezTo>
                  <a:cubicBezTo>
                    <a:pt x="883" y="0"/>
                    <a:pt x="2309" y="67"/>
                    <a:pt x="2679" y="76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27040" y="2895480"/>
              <a:ext cx="633600" cy="841680"/>
            </a:xfrm>
            <a:custGeom>
              <a:avLst/>
              <a:gdLst/>
              <a:ahLst/>
              <a:rect l="l" t="t" r="r" b="b"/>
              <a:pathLst>
                <a:path w="2394" h="1947">
                  <a:moveTo>
                    <a:pt x="0" y="1938"/>
                  </a:moveTo>
                  <a:cubicBezTo>
                    <a:pt x="38" y="1553"/>
                    <a:pt x="76" y="1169"/>
                    <a:pt x="114" y="855"/>
                  </a:cubicBezTo>
                  <a:cubicBezTo>
                    <a:pt x="152" y="541"/>
                    <a:pt x="124" y="0"/>
                    <a:pt x="228" y="57"/>
                  </a:cubicBezTo>
                  <a:cubicBezTo>
                    <a:pt x="332" y="114"/>
                    <a:pt x="503" y="902"/>
                    <a:pt x="741" y="1197"/>
                  </a:cubicBezTo>
                  <a:cubicBezTo>
                    <a:pt x="979" y="1492"/>
                    <a:pt x="1378" y="1701"/>
                    <a:pt x="1653" y="1824"/>
                  </a:cubicBezTo>
                  <a:cubicBezTo>
                    <a:pt x="1928" y="1947"/>
                    <a:pt x="2271" y="1919"/>
                    <a:pt x="2394" y="193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470400" y="1677960"/>
            <a:ext cx="5445000" cy="437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65440" y="197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34040" y="1158840"/>
            <a:ext cx="56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Selection of Commercial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7080" y="1978200"/>
            <a:ext cx="27133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che Applied Sci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t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me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2280" y="2019240"/>
            <a:ext cx="498312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P Assays CLS II, H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P Kit SL, - HS, - 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P Biomass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aLight (*), ToxiLight (*), Apog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liten, CellTiter-Glo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7270920" y="5827680"/>
            <a:ext cx="1035000" cy="725400"/>
          </a:xfrm>
          <a:prstGeom prst="rect">
            <a:avLst/>
          </a:prstGeom>
          <a:ln w="0">
            <a:noFill/>
          </a:ln>
        </p:spPr>
      </p:pic>
      <p:pic>
        <p:nvPicPr>
          <p:cNvPr id="508" name="tube" descr=""/>
          <p:cNvPicPr/>
          <p:nvPr/>
        </p:nvPicPr>
        <p:blipFill>
          <a:blip r:embed="rId2"/>
          <a:srcRect l="8340" t="11104" r="8340" b="0"/>
          <a:stretch/>
        </p:blipFill>
        <p:spPr>
          <a:xfrm>
            <a:off x="8381880" y="5791320"/>
            <a:ext cx="381240" cy="765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01992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*) 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191120" y="2514600"/>
            <a:ext cx="4190760" cy="6094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90360" y="13716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2571840"/>
            <a:ext cx="579132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od + cosmetics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ygiene + general micr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rug screening, pharmaceu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, cell biolog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micr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nical research in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40384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9581600">
            <a:off x="2819160" y="198072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Keep away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Applica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61440"/>
            <a:ext cx="7848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 Assays </a:t>
            </a:r>
            <a:br>
              <a:rPr sz="3600"/>
            </a:br>
            <a:endParaRPr b="0" lang="en-US" sz="3600" spc="-1" strike="noStrike">
              <a:solidFill>
                <a:srgbClr val="2785a0"/>
              </a:solidFill>
              <a:latin typeface="Arial Black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98108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earc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udy of cellular processes by an eas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tectabl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ntify effects on gene regulation,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ction, metabolic transport, enzyme activity, 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889440" y="130968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85a0"/>
                </a:solidFill>
                <a:latin typeface="Arial"/>
              </a:rPr>
              <a:t>Genetically enginee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85a0"/>
                </a:solidFill>
                <a:latin typeface="Arial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640" y="2133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er gene under control of the elements to be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3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29000" y="1981080"/>
            <a:ext cx="5410080" cy="3372120"/>
          </a:xfrm>
          <a:custGeom>
            <a:avLst/>
            <a:gdLst/>
            <a:ahLst/>
            <a:rect l="l" t="t" r="r" b="b"/>
            <a:pathLst>
              <a:path w="4236" h="2292">
                <a:moveTo>
                  <a:pt x="36" y="2256"/>
                </a:moveTo>
                <a:cubicBezTo>
                  <a:pt x="44" y="2232"/>
                  <a:pt x="88" y="1908"/>
                  <a:pt x="96" y="1884"/>
                </a:cubicBezTo>
                <a:cubicBezTo>
                  <a:pt x="104" y="1860"/>
                  <a:pt x="120" y="1812"/>
                  <a:pt x="120" y="1812"/>
                </a:cubicBezTo>
                <a:cubicBezTo>
                  <a:pt x="139" y="1641"/>
                  <a:pt x="0" y="1684"/>
                  <a:pt x="0" y="1512"/>
                </a:cubicBezTo>
                <a:cubicBezTo>
                  <a:pt x="6" y="1512"/>
                  <a:pt x="335" y="1290"/>
                  <a:pt x="384" y="1272"/>
                </a:cubicBezTo>
                <a:cubicBezTo>
                  <a:pt x="467" y="1241"/>
                  <a:pt x="528" y="1176"/>
                  <a:pt x="600" y="1128"/>
                </a:cubicBezTo>
                <a:cubicBezTo>
                  <a:pt x="677" y="1012"/>
                  <a:pt x="720" y="872"/>
                  <a:pt x="720" y="732"/>
                </a:cubicBezTo>
                <a:cubicBezTo>
                  <a:pt x="927" y="725"/>
                  <a:pt x="1341" y="712"/>
                  <a:pt x="1524" y="696"/>
                </a:cubicBezTo>
                <a:cubicBezTo>
                  <a:pt x="1646" y="686"/>
                  <a:pt x="1766" y="629"/>
                  <a:pt x="1884" y="600"/>
                </a:cubicBezTo>
                <a:cubicBezTo>
                  <a:pt x="2015" y="513"/>
                  <a:pt x="1813" y="641"/>
                  <a:pt x="1968" y="564"/>
                </a:cubicBezTo>
                <a:cubicBezTo>
                  <a:pt x="1994" y="551"/>
                  <a:pt x="2040" y="516"/>
                  <a:pt x="2040" y="516"/>
                </a:cubicBezTo>
                <a:cubicBezTo>
                  <a:pt x="2068" y="473"/>
                  <a:pt x="2112" y="379"/>
                  <a:pt x="2112" y="324"/>
                </a:cubicBezTo>
                <a:cubicBezTo>
                  <a:pt x="2196" y="352"/>
                  <a:pt x="2251" y="366"/>
                  <a:pt x="2340" y="384"/>
                </a:cubicBezTo>
                <a:cubicBezTo>
                  <a:pt x="2460" y="380"/>
                  <a:pt x="2580" y="379"/>
                  <a:pt x="2700" y="372"/>
                </a:cubicBezTo>
                <a:cubicBezTo>
                  <a:pt x="2741" y="370"/>
                  <a:pt x="2795" y="326"/>
                  <a:pt x="2832" y="312"/>
                </a:cubicBezTo>
                <a:cubicBezTo>
                  <a:pt x="2903" y="286"/>
                  <a:pt x="2975" y="261"/>
                  <a:pt x="3048" y="240"/>
                </a:cubicBezTo>
                <a:cubicBezTo>
                  <a:pt x="3083" y="214"/>
                  <a:pt x="3123" y="196"/>
                  <a:pt x="3156" y="168"/>
                </a:cubicBezTo>
                <a:cubicBezTo>
                  <a:pt x="3190" y="139"/>
                  <a:pt x="3173" y="130"/>
                  <a:pt x="3192" y="96"/>
                </a:cubicBezTo>
                <a:cubicBezTo>
                  <a:pt x="3226" y="35"/>
                  <a:pt x="3228" y="36"/>
                  <a:pt x="3264" y="0"/>
                </a:cubicBezTo>
                <a:cubicBezTo>
                  <a:pt x="3278" y="217"/>
                  <a:pt x="3267" y="147"/>
                  <a:pt x="3300" y="336"/>
                </a:cubicBezTo>
                <a:cubicBezTo>
                  <a:pt x="3307" y="374"/>
                  <a:pt x="3314" y="441"/>
                  <a:pt x="3348" y="468"/>
                </a:cubicBezTo>
                <a:cubicBezTo>
                  <a:pt x="3358" y="476"/>
                  <a:pt x="3373" y="474"/>
                  <a:pt x="3384" y="480"/>
                </a:cubicBezTo>
                <a:cubicBezTo>
                  <a:pt x="3409" y="494"/>
                  <a:pt x="3433" y="511"/>
                  <a:pt x="3456" y="528"/>
                </a:cubicBezTo>
                <a:cubicBezTo>
                  <a:pt x="3565" y="610"/>
                  <a:pt x="3513" y="590"/>
                  <a:pt x="3600" y="612"/>
                </a:cubicBezTo>
                <a:cubicBezTo>
                  <a:pt x="3681" y="666"/>
                  <a:pt x="3680" y="655"/>
                  <a:pt x="3768" y="684"/>
                </a:cubicBezTo>
                <a:cubicBezTo>
                  <a:pt x="4188" y="671"/>
                  <a:pt x="4032" y="672"/>
                  <a:pt x="4236" y="672"/>
                </a:cubicBezTo>
                <a:cubicBezTo>
                  <a:pt x="4219" y="740"/>
                  <a:pt x="4203" y="805"/>
                  <a:pt x="4164" y="864"/>
                </a:cubicBezTo>
                <a:cubicBezTo>
                  <a:pt x="4122" y="1033"/>
                  <a:pt x="4144" y="961"/>
                  <a:pt x="4104" y="1080"/>
                </a:cubicBezTo>
                <a:cubicBezTo>
                  <a:pt x="4100" y="1128"/>
                  <a:pt x="4099" y="1176"/>
                  <a:pt x="4092" y="1224"/>
                </a:cubicBezTo>
                <a:cubicBezTo>
                  <a:pt x="4087" y="1261"/>
                  <a:pt x="4069" y="1295"/>
                  <a:pt x="4068" y="1332"/>
                </a:cubicBezTo>
                <a:cubicBezTo>
                  <a:pt x="4065" y="1548"/>
                  <a:pt x="4073" y="1764"/>
                  <a:pt x="4080" y="1980"/>
                </a:cubicBezTo>
                <a:cubicBezTo>
                  <a:pt x="4083" y="2066"/>
                  <a:pt x="4101" y="2140"/>
                  <a:pt x="4128" y="2220"/>
                </a:cubicBezTo>
                <a:cubicBezTo>
                  <a:pt x="4135" y="2242"/>
                  <a:pt x="4136" y="2292"/>
                  <a:pt x="4164" y="2292"/>
                </a:cubicBezTo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0120" y="4351320"/>
            <a:ext cx="16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76800" y="4276800"/>
            <a:ext cx="549360" cy="142920"/>
          </a:xfrm>
          <a:prstGeom prst="rect">
            <a:avLst/>
          </a:prstGeom>
          <a:solidFill>
            <a:srgbClr val="ccff66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91320" y="3648240"/>
            <a:ext cx="2743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ulatory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29280" y="359100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15240" y="402912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er 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81720" y="4262400"/>
            <a:ext cx="549360" cy="14292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15240" y="4029120"/>
            <a:ext cx="16192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6720" y="3783960"/>
            <a:ext cx="1189800" cy="1126080"/>
            <a:chOff x="486720" y="3783960"/>
            <a:chExt cx="1189800" cy="1126080"/>
          </a:xfrm>
        </p:grpSpPr>
        <p:sp>
          <p:nvSpPr>
            <p:cNvPr id="531" name=""/>
            <p:cNvSpPr/>
            <p:nvPr/>
          </p:nvSpPr>
          <p:spPr>
            <a:xfrm>
              <a:off x="609480" y="3919680"/>
              <a:ext cx="1067040" cy="990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9395600">
              <a:off x="606960" y="3987360"/>
              <a:ext cx="9162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4720" y="3946680"/>
              <a:ext cx="9162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0291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sm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660200" y="4678200"/>
            <a:ext cx="567720" cy="586080"/>
            <a:chOff x="4660200" y="4678200"/>
            <a:chExt cx="567720" cy="586080"/>
          </a:xfrm>
        </p:grpSpPr>
        <p:sp>
          <p:nvSpPr>
            <p:cNvPr id="536" name=""/>
            <p:cNvSpPr/>
            <p:nvPr/>
          </p:nvSpPr>
          <p:spPr>
            <a:xfrm>
              <a:off x="4724280" y="4741920"/>
              <a:ext cx="501840" cy="522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9395600">
              <a:off x="4728600" y="4769640"/>
              <a:ext cx="43020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59920" y="4755960"/>
              <a:ext cx="43020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63400" y="4191120"/>
            <a:ext cx="567720" cy="585720"/>
            <a:chOff x="5063400" y="4191120"/>
            <a:chExt cx="567720" cy="585720"/>
          </a:xfrm>
        </p:grpSpPr>
        <p:sp>
          <p:nvSpPr>
            <p:cNvPr id="540" name=""/>
            <p:cNvSpPr/>
            <p:nvPr/>
          </p:nvSpPr>
          <p:spPr>
            <a:xfrm>
              <a:off x="5127480" y="4254840"/>
              <a:ext cx="501840" cy="522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9395600">
              <a:off x="5131800" y="4282560"/>
              <a:ext cx="43020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63120" y="4268880"/>
              <a:ext cx="43020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561920" y="3765600"/>
            <a:ext cx="567720" cy="585720"/>
            <a:chOff x="4561920" y="3765600"/>
            <a:chExt cx="567720" cy="585720"/>
          </a:xfrm>
        </p:grpSpPr>
        <p:sp>
          <p:nvSpPr>
            <p:cNvPr id="544" name=""/>
            <p:cNvSpPr/>
            <p:nvPr/>
          </p:nvSpPr>
          <p:spPr>
            <a:xfrm>
              <a:off x="4626000" y="3829320"/>
              <a:ext cx="501480" cy="522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9395600">
              <a:off x="4630320" y="3857040"/>
              <a:ext cx="43020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61280" y="3843360"/>
              <a:ext cx="430200" cy="3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738400" y="106668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640" y="2133720"/>
            <a:ext cx="3048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cellular processes by means of an easy detectabl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33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1981080"/>
            <a:ext cx="5410080" cy="3372120"/>
          </a:xfrm>
          <a:custGeom>
            <a:avLst/>
            <a:gdLst/>
            <a:ahLst/>
            <a:rect l="l" t="t" r="r" b="b"/>
            <a:pathLst>
              <a:path w="4236" h="2292">
                <a:moveTo>
                  <a:pt x="36" y="2256"/>
                </a:moveTo>
                <a:cubicBezTo>
                  <a:pt x="44" y="2232"/>
                  <a:pt x="88" y="1908"/>
                  <a:pt x="96" y="1884"/>
                </a:cubicBezTo>
                <a:cubicBezTo>
                  <a:pt x="104" y="1860"/>
                  <a:pt x="120" y="1812"/>
                  <a:pt x="120" y="1812"/>
                </a:cubicBezTo>
                <a:cubicBezTo>
                  <a:pt x="139" y="1641"/>
                  <a:pt x="0" y="1684"/>
                  <a:pt x="0" y="1512"/>
                </a:cubicBezTo>
                <a:cubicBezTo>
                  <a:pt x="6" y="1512"/>
                  <a:pt x="335" y="1290"/>
                  <a:pt x="384" y="1272"/>
                </a:cubicBezTo>
                <a:cubicBezTo>
                  <a:pt x="467" y="1241"/>
                  <a:pt x="528" y="1176"/>
                  <a:pt x="600" y="1128"/>
                </a:cubicBezTo>
                <a:cubicBezTo>
                  <a:pt x="677" y="1012"/>
                  <a:pt x="720" y="872"/>
                  <a:pt x="720" y="732"/>
                </a:cubicBezTo>
                <a:cubicBezTo>
                  <a:pt x="927" y="725"/>
                  <a:pt x="1341" y="712"/>
                  <a:pt x="1524" y="696"/>
                </a:cubicBezTo>
                <a:cubicBezTo>
                  <a:pt x="1646" y="686"/>
                  <a:pt x="1766" y="629"/>
                  <a:pt x="1884" y="600"/>
                </a:cubicBezTo>
                <a:cubicBezTo>
                  <a:pt x="2015" y="513"/>
                  <a:pt x="1813" y="641"/>
                  <a:pt x="1968" y="564"/>
                </a:cubicBezTo>
                <a:cubicBezTo>
                  <a:pt x="1994" y="551"/>
                  <a:pt x="2040" y="516"/>
                  <a:pt x="2040" y="516"/>
                </a:cubicBezTo>
                <a:cubicBezTo>
                  <a:pt x="2068" y="473"/>
                  <a:pt x="2112" y="379"/>
                  <a:pt x="2112" y="324"/>
                </a:cubicBezTo>
                <a:cubicBezTo>
                  <a:pt x="2196" y="352"/>
                  <a:pt x="2251" y="366"/>
                  <a:pt x="2340" y="384"/>
                </a:cubicBezTo>
                <a:cubicBezTo>
                  <a:pt x="2460" y="380"/>
                  <a:pt x="2580" y="379"/>
                  <a:pt x="2700" y="372"/>
                </a:cubicBezTo>
                <a:cubicBezTo>
                  <a:pt x="2741" y="370"/>
                  <a:pt x="2795" y="326"/>
                  <a:pt x="2832" y="312"/>
                </a:cubicBezTo>
                <a:cubicBezTo>
                  <a:pt x="2903" y="286"/>
                  <a:pt x="2975" y="261"/>
                  <a:pt x="3048" y="240"/>
                </a:cubicBezTo>
                <a:cubicBezTo>
                  <a:pt x="3083" y="214"/>
                  <a:pt x="3123" y="196"/>
                  <a:pt x="3156" y="168"/>
                </a:cubicBezTo>
                <a:cubicBezTo>
                  <a:pt x="3190" y="139"/>
                  <a:pt x="3173" y="130"/>
                  <a:pt x="3192" y="96"/>
                </a:cubicBezTo>
                <a:cubicBezTo>
                  <a:pt x="3226" y="35"/>
                  <a:pt x="3228" y="36"/>
                  <a:pt x="3264" y="0"/>
                </a:cubicBezTo>
                <a:cubicBezTo>
                  <a:pt x="3278" y="217"/>
                  <a:pt x="3267" y="147"/>
                  <a:pt x="3300" y="336"/>
                </a:cubicBezTo>
                <a:cubicBezTo>
                  <a:pt x="3307" y="374"/>
                  <a:pt x="3314" y="441"/>
                  <a:pt x="3348" y="468"/>
                </a:cubicBezTo>
                <a:cubicBezTo>
                  <a:pt x="3358" y="476"/>
                  <a:pt x="3373" y="474"/>
                  <a:pt x="3384" y="480"/>
                </a:cubicBezTo>
                <a:cubicBezTo>
                  <a:pt x="3409" y="494"/>
                  <a:pt x="3433" y="511"/>
                  <a:pt x="3456" y="528"/>
                </a:cubicBezTo>
                <a:cubicBezTo>
                  <a:pt x="3565" y="610"/>
                  <a:pt x="3513" y="590"/>
                  <a:pt x="3600" y="612"/>
                </a:cubicBezTo>
                <a:cubicBezTo>
                  <a:pt x="3681" y="666"/>
                  <a:pt x="3680" y="655"/>
                  <a:pt x="3768" y="684"/>
                </a:cubicBezTo>
                <a:cubicBezTo>
                  <a:pt x="4188" y="671"/>
                  <a:pt x="4032" y="672"/>
                  <a:pt x="4236" y="672"/>
                </a:cubicBezTo>
                <a:cubicBezTo>
                  <a:pt x="4219" y="740"/>
                  <a:pt x="4203" y="805"/>
                  <a:pt x="4164" y="864"/>
                </a:cubicBezTo>
                <a:cubicBezTo>
                  <a:pt x="4122" y="1033"/>
                  <a:pt x="4144" y="961"/>
                  <a:pt x="4104" y="1080"/>
                </a:cubicBezTo>
                <a:cubicBezTo>
                  <a:pt x="4100" y="1128"/>
                  <a:pt x="4099" y="1176"/>
                  <a:pt x="4092" y="1224"/>
                </a:cubicBezTo>
                <a:cubicBezTo>
                  <a:pt x="4087" y="1261"/>
                  <a:pt x="4069" y="1295"/>
                  <a:pt x="4068" y="1332"/>
                </a:cubicBezTo>
                <a:cubicBezTo>
                  <a:pt x="4065" y="1548"/>
                  <a:pt x="4073" y="1764"/>
                  <a:pt x="4080" y="1980"/>
                </a:cubicBezTo>
                <a:cubicBezTo>
                  <a:pt x="4083" y="2066"/>
                  <a:pt x="4101" y="2140"/>
                  <a:pt x="4128" y="2220"/>
                </a:cubicBezTo>
                <a:cubicBezTo>
                  <a:pt x="4135" y="2242"/>
                  <a:pt x="4136" y="2292"/>
                  <a:pt x="4164" y="2292"/>
                </a:cubicBezTo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28200">
            <a:off x="3870360" y="4971600"/>
            <a:ext cx="549000" cy="590400"/>
          </a:xfrm>
          <a:custGeom>
            <a:avLst/>
            <a:gdLst>
              <a:gd name="textAreaLeft" fmla="*/ 73440 w 549000"/>
              <a:gd name="textAreaRight" fmla="*/ 475560 w 549000"/>
              <a:gd name="textAreaTop" fmla="*/ 103320 h 590400"/>
              <a:gd name="textAreaBottom" fmla="*/ 4280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53240" y="3979800"/>
            <a:ext cx="161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19920" y="3905280"/>
            <a:ext cx="549000" cy="142920"/>
          </a:xfrm>
          <a:prstGeom prst="rect">
            <a:avLst/>
          </a:prstGeom>
          <a:solidFill>
            <a:srgbClr val="ccff66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34080" y="3276720"/>
            <a:ext cx="2743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ulatory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00600" y="4495680"/>
            <a:ext cx="86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70560" y="4429080"/>
            <a:ext cx="1387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4819680"/>
            <a:ext cx="853920" cy="210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572000" y="4667400"/>
            <a:ext cx="228600" cy="277560"/>
            <a:chOff x="4572000" y="4667400"/>
            <a:chExt cx="228600" cy="277560"/>
          </a:xfrm>
        </p:grpSpPr>
        <p:sp>
          <p:nvSpPr>
            <p:cNvPr id="559" name=""/>
            <p:cNvSpPr/>
            <p:nvPr/>
          </p:nvSpPr>
          <p:spPr>
            <a:xfrm>
              <a:off x="4572000" y="4792680"/>
              <a:ext cx="22860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72000" y="4667400"/>
              <a:ext cx="228600" cy="125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343400" y="4718160"/>
            <a:ext cx="1295280" cy="177840"/>
          </a:xfrm>
          <a:custGeom>
            <a:avLst/>
            <a:gdLst/>
            <a:ahLst/>
            <a:rect l="l" t="t" r="r" b="b"/>
            <a:pathLst>
              <a:path w="816" h="112">
                <a:moveTo>
                  <a:pt x="816" y="16"/>
                </a:moveTo>
                <a:cubicBezTo>
                  <a:pt x="756" y="8"/>
                  <a:pt x="696" y="0"/>
                  <a:pt x="624" y="16"/>
                </a:cubicBezTo>
                <a:cubicBezTo>
                  <a:pt x="552" y="32"/>
                  <a:pt x="464" y="112"/>
                  <a:pt x="384" y="112"/>
                </a:cubicBezTo>
                <a:cubicBezTo>
                  <a:pt x="304" y="112"/>
                  <a:pt x="208" y="24"/>
                  <a:pt x="144" y="16"/>
                </a:cubicBezTo>
                <a:cubicBezTo>
                  <a:pt x="80" y="8"/>
                  <a:pt x="48" y="64"/>
                  <a:pt x="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800600" y="4743360"/>
            <a:ext cx="228600" cy="277560"/>
            <a:chOff x="4800600" y="4743360"/>
            <a:chExt cx="228600" cy="277560"/>
          </a:xfrm>
        </p:grpSpPr>
        <p:sp>
          <p:nvSpPr>
            <p:cNvPr id="563" name=""/>
            <p:cNvSpPr/>
            <p:nvPr/>
          </p:nvSpPr>
          <p:spPr>
            <a:xfrm>
              <a:off x="4800600" y="4868640"/>
              <a:ext cx="22860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00600" y="4743360"/>
              <a:ext cx="228600" cy="125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029200" y="4743360"/>
            <a:ext cx="228600" cy="277560"/>
            <a:chOff x="5029200" y="4743360"/>
            <a:chExt cx="228600" cy="277560"/>
          </a:xfrm>
        </p:grpSpPr>
        <p:sp>
          <p:nvSpPr>
            <p:cNvPr id="566" name=""/>
            <p:cNvSpPr/>
            <p:nvPr/>
          </p:nvSpPr>
          <p:spPr>
            <a:xfrm>
              <a:off x="5029200" y="4868640"/>
              <a:ext cx="22860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200" y="4743360"/>
              <a:ext cx="228600" cy="125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370560" y="4094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70560" y="45910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62720" y="489600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72040" y="3219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3890880"/>
            <a:ext cx="549360" cy="14292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05320" y="42544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er Enzy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191120" y="3657600"/>
            <a:ext cx="4286160" cy="2475000"/>
            <a:chOff x="4191120" y="3657600"/>
            <a:chExt cx="4286160" cy="2475000"/>
          </a:xfrm>
        </p:grpSpPr>
        <p:sp>
          <p:nvSpPr>
            <p:cNvPr id="575" name=""/>
            <p:cNvSpPr/>
            <p:nvPr/>
          </p:nvSpPr>
          <p:spPr>
            <a:xfrm>
              <a:off x="4191120" y="5541840"/>
              <a:ext cx="990360" cy="59076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6858000" y="3657600"/>
              <a:ext cx="1619280" cy="347760"/>
              <a:chOff x="6858000" y="3657600"/>
              <a:chExt cx="1619280" cy="347760"/>
            </a:xfrm>
          </p:grpSpPr>
          <p:sp>
            <p:nvSpPr>
              <p:cNvPr id="577" name=""/>
              <p:cNvSpPr/>
              <p:nvPr/>
            </p:nvSpPr>
            <p:spPr>
              <a:xfrm>
                <a:off x="6858000" y="3657600"/>
                <a:ext cx="16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orter Ge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58000" y="3657600"/>
                <a:ext cx="161928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743960" y="365760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73360" y="1962000"/>
            <a:ext cx="64767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minescent Research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Mai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 based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er Gene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8920" y="914400"/>
            <a:ext cx="22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b2b2b2"/>
                </a:solidFill>
                <a:latin typeface="Arial"/>
              </a:rPr>
              <a:t>Cont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67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69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20600" y="1341360"/>
            <a:ext cx="4222800" cy="4678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1341360"/>
            <a:ext cx="4222800" cy="4678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654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028840" y="13716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85a0"/>
                </a:solidFill>
                <a:latin typeface="Arial"/>
              </a:rPr>
              <a:t>Quantify Effect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5400" y="2190600"/>
            <a:ext cx="40654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 regu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cription/translationa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alyse promotor/enhancer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eptor func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tabolic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osensors, Bioas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 many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3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33400" y="4896000"/>
            <a:ext cx="990720" cy="590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28200">
            <a:off x="1412640" y="4325760"/>
            <a:ext cx="549360" cy="590760"/>
          </a:xfrm>
          <a:custGeom>
            <a:avLst/>
            <a:gdLst>
              <a:gd name="textAreaLeft" fmla="*/ 73440 w 549360"/>
              <a:gd name="textAreaRight" fmla="*/ 475920 w 549360"/>
              <a:gd name="textAreaTop" fmla="*/ 103320 h 590760"/>
              <a:gd name="textAreaBottom" fmla="*/ 42840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76200" y="4173480"/>
            <a:ext cx="854280" cy="21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71640" y="337968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er enzy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3040" y="1870200"/>
            <a:ext cx="222876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a cellula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23920" y="25909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e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3040" y="3379680"/>
            <a:ext cx="2228760" cy="233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74920" y="7761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9760" y="137160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85a0"/>
                </a:solidFill>
                <a:latin typeface="Arial"/>
              </a:rPr>
              <a:t>Design Repor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345560" y="1386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5262480" y="1905120"/>
            <a:ext cx="37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porter Gene As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and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417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74640" y="3417840"/>
            <a:ext cx="299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9673400">
            <a:off x="76320" y="2057040"/>
            <a:ext cx="5105160" cy="310824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93880" y="3611520"/>
            <a:ext cx="3004920" cy="1554120"/>
            <a:chOff x="893880" y="3611520"/>
            <a:chExt cx="3004920" cy="1554120"/>
          </a:xfrm>
        </p:grpSpPr>
        <p:sp>
          <p:nvSpPr>
            <p:cNvPr id="601" name=""/>
            <p:cNvSpPr/>
            <p:nvPr/>
          </p:nvSpPr>
          <p:spPr>
            <a:xfrm>
              <a:off x="2867040" y="4064040"/>
              <a:ext cx="1031760" cy="49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u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93880" y="4452840"/>
              <a:ext cx="183672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ZYM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irefly Lucifer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5400000">
              <a:off x="1702440" y="3823560"/>
              <a:ext cx="1036800" cy="612720"/>
            </a:xfrm>
            <a:custGeom>
              <a:avLst/>
              <a:gdLst>
                <a:gd name="textAreaLeft" fmla="*/ 181440 w 1036800"/>
                <a:gd name="textAreaRight" fmla="*/ 751680 w 1036800"/>
                <a:gd name="textAreaTop" fmla="*/ 82080 h 612720"/>
                <a:gd name="textAreaBottom" fmla="*/ 53064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1051830"/>
                  <a:lnTo>
                    <a:pt x="19105" y="16035"/>
                  </a:lnTo>
                  <a:lnTo>
                    <a:pt x="17280" y="0"/>
                  </a:lnTo>
                  <a:lnTo>
                    <a:pt x="10465" y="16035"/>
                  </a:lnTo>
                  <a:lnTo>
                    <a:pt x="12625" y="16035"/>
                  </a:lnTo>
                  <a:arcTo wR="7560" hR="21600" stAng="4348170" swAng="694395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572000" y="3886200"/>
            <a:ext cx="2101680" cy="382680"/>
            <a:chOff x="4572000" y="3886200"/>
            <a:chExt cx="2101680" cy="382680"/>
          </a:xfrm>
        </p:grpSpPr>
        <p:sp>
          <p:nvSpPr>
            <p:cNvPr id="605" name=""/>
            <p:cNvSpPr/>
            <p:nvPr/>
          </p:nvSpPr>
          <p:spPr>
            <a:xfrm>
              <a:off x="5943600" y="3886200"/>
              <a:ext cx="730080" cy="382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Lu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0" y="3962520"/>
              <a:ext cx="487440" cy="255600"/>
            </a:xfrm>
            <a:prstGeom prst="rightArrow">
              <a:avLst>
                <a:gd name="adj1" fmla="val 50000"/>
                <a:gd name="adj2" fmla="val 47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800600" y="35812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Cell 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9480" y="33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5715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refly Lucife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572000" y="4343400"/>
            <a:ext cx="4343400" cy="743040"/>
            <a:chOff x="4572000" y="4343400"/>
            <a:chExt cx="4343400" cy="743040"/>
          </a:xfrm>
        </p:grpSpPr>
        <p:sp>
          <p:nvSpPr>
            <p:cNvPr id="611" name=""/>
            <p:cNvSpPr/>
            <p:nvPr/>
          </p:nvSpPr>
          <p:spPr>
            <a:xfrm>
              <a:off x="6095880" y="4419720"/>
              <a:ext cx="487440" cy="255600"/>
            </a:xfrm>
            <a:prstGeom prst="rightArrow">
              <a:avLst>
                <a:gd name="adj1" fmla="val 50000"/>
                <a:gd name="adj2" fmla="val 47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4343400"/>
              <a:ext cx="4343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TP+ Luciferin          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MP + Oxylucifer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+Light (565n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4419720"/>
              <a:ext cx="487440" cy="255600"/>
            </a:xfrm>
            <a:prstGeom prst="rightArrow">
              <a:avLst>
                <a:gd name="adj1" fmla="val 50000"/>
                <a:gd name="adj2" fmla="val 47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10280" y="4556160"/>
              <a:ext cx="838440" cy="530280"/>
            </a:xfrm>
            <a:prstGeom prst="irregularSeal1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370160" y="2575080"/>
            <a:ext cx="3267000" cy="973080"/>
            <a:chOff x="1370160" y="2575080"/>
            <a:chExt cx="3267000" cy="973080"/>
          </a:xfrm>
        </p:grpSpPr>
        <p:sp>
          <p:nvSpPr>
            <p:cNvPr id="616" name=""/>
            <p:cNvSpPr/>
            <p:nvPr/>
          </p:nvSpPr>
          <p:spPr>
            <a:xfrm>
              <a:off x="1370160" y="2575080"/>
              <a:ext cx="14284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egulatory 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35440" y="2705040"/>
              <a:ext cx="170172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eporter G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574640" y="3417840"/>
              <a:ext cx="299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6440" y="3287880"/>
              <a:ext cx="61272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98640" y="3222720"/>
              <a:ext cx="1498680" cy="325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l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47760" y="1341360"/>
            <a:ext cx="1498680" cy="1946520"/>
            <a:chOff x="347760" y="1341360"/>
            <a:chExt cx="1498680" cy="1946520"/>
          </a:xfrm>
        </p:grpSpPr>
        <p:sp>
          <p:nvSpPr>
            <p:cNvPr id="622" name=""/>
            <p:cNvSpPr/>
            <p:nvPr/>
          </p:nvSpPr>
          <p:spPr>
            <a:xfrm>
              <a:off x="347760" y="1341360"/>
              <a:ext cx="1498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x-/in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93880" y="2120760"/>
              <a:ext cx="0" cy="4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93880" y="2575080"/>
              <a:ext cx="9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46440" y="257652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 rot="19673400">
            <a:off x="76320" y="2057040"/>
            <a:ext cx="5105160" cy="310824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3520" y="-380880"/>
            <a:ext cx="75438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lication for Environment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iosensor, Bioa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9673400">
            <a:off x="1294920" y="2377800"/>
            <a:ext cx="5105520" cy="3108240"/>
          </a:xfrm>
          <a:prstGeom prst="ellipse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0" y="245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48040" y="3544920"/>
            <a:ext cx="299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19480" y="3414600"/>
            <a:ext cx="612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2560" y="3327480"/>
            <a:ext cx="1498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luxCD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3200" y="2701800"/>
            <a:ext cx="1428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ulatory Sequ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08480" y="2832120"/>
            <a:ext cx="17017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orter 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38480" y="4130640"/>
            <a:ext cx="1032120" cy="49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3140640" y="4342680"/>
            <a:ext cx="1036800" cy="612720"/>
          </a:xfrm>
          <a:custGeom>
            <a:avLst/>
            <a:gdLst>
              <a:gd name="textAreaLeft" fmla="*/ 181440 w 1036800"/>
              <a:gd name="textAreaRight" fmla="*/ 751680 w 1036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4892760"/>
            <a:ext cx="1524240" cy="38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382572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752480" y="420696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MN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10560" y="2044800"/>
            <a:ext cx="2172600" cy="1464120"/>
            <a:chOff x="610560" y="2044800"/>
            <a:chExt cx="2172600" cy="1464120"/>
          </a:xfrm>
        </p:grpSpPr>
        <p:sp>
          <p:nvSpPr>
            <p:cNvPr id="641" name=""/>
            <p:cNvSpPr/>
            <p:nvPr/>
          </p:nvSpPr>
          <p:spPr>
            <a:xfrm>
              <a:off x="610560" y="2044800"/>
              <a:ext cx="217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g, CN-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org. compou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845200">
              <a:off x="2019240" y="287316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7760" y="3075480"/>
            <a:ext cx="2379960" cy="814320"/>
            <a:chOff x="77760" y="3075480"/>
            <a:chExt cx="2379960" cy="814320"/>
          </a:xfrm>
        </p:grpSpPr>
        <p:sp>
          <p:nvSpPr>
            <p:cNvPr id="644" name=""/>
            <p:cNvSpPr/>
            <p:nvPr/>
          </p:nvSpPr>
          <p:spPr>
            <a:xfrm rot="2845200">
              <a:off x="1714320" y="325404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760" y="3139920"/>
              <a:ext cx="162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utage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mpou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6404400" y="15397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3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638680" y="4572000"/>
            <a:ext cx="2895480" cy="1090440"/>
            <a:chOff x="5638680" y="4572000"/>
            <a:chExt cx="2895480" cy="1090440"/>
          </a:xfrm>
        </p:grpSpPr>
        <p:sp>
          <p:nvSpPr>
            <p:cNvPr id="649" name=""/>
            <p:cNvSpPr/>
            <p:nvPr/>
          </p:nvSpPr>
          <p:spPr>
            <a:xfrm>
              <a:off x="5638680" y="4876920"/>
              <a:ext cx="487080" cy="255600"/>
            </a:xfrm>
            <a:prstGeom prst="rightArrow">
              <a:avLst>
                <a:gd name="adj1" fmla="val 50000"/>
                <a:gd name="adj2" fmla="val 476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5880" y="4572000"/>
              <a:ext cx="2438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ight (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60-480 n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57640" y="5132520"/>
              <a:ext cx="838440" cy="529920"/>
            </a:xfrm>
            <a:prstGeom prst="irregularSeal1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010280" y="2911320"/>
            <a:ext cx="21337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me Bioassays are whole cell assays and do not require cell 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67280" y="5715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Bacterial Lucife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136240" y="13096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Cel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209680" y="1828800"/>
            <a:ext cx="5334120" cy="3876480"/>
            <a:chOff x="2209680" y="1828800"/>
            <a:chExt cx="5334120" cy="3876480"/>
          </a:xfrm>
        </p:grpSpPr>
        <p:grpSp>
          <p:nvGrpSpPr>
            <p:cNvPr id="656" name=""/>
            <p:cNvGrpSpPr/>
            <p:nvPr/>
          </p:nvGrpSpPr>
          <p:grpSpPr>
            <a:xfrm>
              <a:off x="3323520" y="2024640"/>
              <a:ext cx="734040" cy="871920"/>
              <a:chOff x="3323520" y="2024640"/>
              <a:chExt cx="734040" cy="871920"/>
            </a:xfrm>
          </p:grpSpPr>
          <p:sp>
            <p:nvSpPr>
              <p:cNvPr id="657" name=""/>
              <p:cNvSpPr/>
              <p:nvPr/>
            </p:nvSpPr>
            <p:spPr>
              <a:xfrm>
                <a:off x="3873240" y="2439720"/>
                <a:ext cx="184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3371040" y="2024640"/>
                <a:ext cx="350640" cy="424800"/>
                <a:chOff x="3371040" y="2024640"/>
                <a:chExt cx="350640" cy="424800"/>
              </a:xfrm>
            </p:grpSpPr>
            <p:sp>
              <p:nvSpPr>
                <p:cNvPr id="659" name=""/>
                <p:cNvSpPr/>
                <p:nvPr/>
              </p:nvSpPr>
              <p:spPr>
                <a:xfrm rot="2198400">
                  <a:off x="3440160" y="2190600"/>
                  <a:ext cx="81360" cy="260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5752f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9898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198400">
                  <a:off x="3570840" y="2023200"/>
                  <a:ext cx="81360" cy="2599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75752f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9898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rot="2278800">
                <a:off x="3428640" y="2322360"/>
                <a:ext cx="91440" cy="3736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5752f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3259800">
                <a:off x="3787200" y="2253960"/>
                <a:ext cx="93600" cy="321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75752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462920" y="1977120"/>
              <a:ext cx="699840" cy="1048680"/>
              <a:chOff x="4462920" y="1977120"/>
              <a:chExt cx="699840" cy="1048680"/>
            </a:xfrm>
          </p:grpSpPr>
          <p:sp>
            <p:nvSpPr>
              <p:cNvPr id="664" name=""/>
              <p:cNvSpPr/>
              <p:nvPr/>
            </p:nvSpPr>
            <p:spPr>
              <a:xfrm rot="1771200">
                <a:off x="4620600" y="2236320"/>
                <a:ext cx="384120" cy="74268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9898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33080" y="2379960"/>
                <a:ext cx="96120" cy="171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53753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56840" y="2408040"/>
                <a:ext cx="47880" cy="1141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92960" y="2779560"/>
                <a:ext cx="95760" cy="171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53753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17080" y="2808360"/>
                <a:ext cx="47520" cy="1141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50400">
                <a:off x="4571640" y="2004840"/>
                <a:ext cx="240120" cy="4212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9898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5410080" y="2093040"/>
              <a:ext cx="914400" cy="840600"/>
              <a:chOff x="5410080" y="2093040"/>
              <a:chExt cx="914400" cy="840600"/>
            </a:xfrm>
          </p:grpSpPr>
          <p:sp>
            <p:nvSpPr>
              <p:cNvPr id="671" name=""/>
              <p:cNvSpPr/>
              <p:nvPr/>
            </p:nvSpPr>
            <p:spPr>
              <a:xfrm>
                <a:off x="5410080" y="2093040"/>
                <a:ext cx="914400" cy="840600"/>
              </a:xfrm>
              <a:custGeom>
                <a:avLst/>
                <a:gdLst/>
                <a:ahLst/>
                <a:rect l="l" t="t" r="r" b="b"/>
                <a:pathLst>
                  <a:path w="718" h="554">
                    <a:moveTo>
                      <a:pt x="209" y="0"/>
                    </a:moveTo>
                    <a:cubicBezTo>
                      <a:pt x="234" y="17"/>
                      <a:pt x="255" y="41"/>
                      <a:pt x="282" y="54"/>
                    </a:cubicBezTo>
                    <a:cubicBezTo>
                      <a:pt x="320" y="73"/>
                      <a:pt x="359" y="86"/>
                      <a:pt x="400" y="100"/>
                    </a:cubicBezTo>
                    <a:cubicBezTo>
                      <a:pt x="542" y="94"/>
                      <a:pt x="595" y="145"/>
                      <a:pt x="646" y="54"/>
                    </a:cubicBezTo>
                    <a:cubicBezTo>
                      <a:pt x="628" y="139"/>
                      <a:pt x="610" y="273"/>
                      <a:pt x="691" y="327"/>
                    </a:cubicBezTo>
                    <a:cubicBezTo>
                      <a:pt x="703" y="362"/>
                      <a:pt x="693" y="347"/>
                      <a:pt x="718" y="372"/>
                    </a:cubicBezTo>
                    <a:cubicBezTo>
                      <a:pt x="635" y="386"/>
                      <a:pt x="571" y="407"/>
                      <a:pt x="509" y="463"/>
                    </a:cubicBezTo>
                    <a:cubicBezTo>
                      <a:pt x="500" y="471"/>
                      <a:pt x="436" y="526"/>
                      <a:pt x="436" y="554"/>
                    </a:cubicBezTo>
                    <a:cubicBezTo>
                      <a:pt x="367" y="531"/>
                      <a:pt x="338" y="455"/>
                      <a:pt x="255" y="427"/>
                    </a:cubicBezTo>
                    <a:cubicBezTo>
                      <a:pt x="189" y="364"/>
                      <a:pt x="88" y="400"/>
                      <a:pt x="0" y="400"/>
                    </a:cubicBezTo>
                    <a:cubicBezTo>
                      <a:pt x="53" y="382"/>
                      <a:pt x="54" y="352"/>
                      <a:pt x="64" y="300"/>
                    </a:cubicBezTo>
                    <a:cubicBezTo>
                      <a:pt x="54" y="211"/>
                      <a:pt x="67" y="243"/>
                      <a:pt x="46" y="200"/>
                    </a:cubicBezTo>
                    <a:cubicBezTo>
                      <a:pt x="113" y="183"/>
                      <a:pt x="152" y="168"/>
                      <a:pt x="191" y="109"/>
                    </a:cubicBezTo>
                    <a:cubicBezTo>
                      <a:pt x="215" y="37"/>
                      <a:pt x="209" y="73"/>
                      <a:pt x="209" y="0"/>
                    </a:cubicBez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71080" y="2485800"/>
                <a:ext cx="366480" cy="2181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6858000" y="2093040"/>
              <a:ext cx="533520" cy="713880"/>
            </a:xfrm>
            <a:custGeom>
              <a:avLst/>
              <a:gdLst/>
              <a:ahLst/>
              <a:rect l="l" t="t" r="r" b="b"/>
              <a:pathLst>
                <a:path w="418" h="533">
                  <a:moveTo>
                    <a:pt x="9" y="15"/>
                  </a:moveTo>
                  <a:cubicBezTo>
                    <a:pt x="78" y="154"/>
                    <a:pt x="53" y="74"/>
                    <a:pt x="36" y="324"/>
                  </a:cubicBezTo>
                  <a:cubicBezTo>
                    <a:pt x="33" y="365"/>
                    <a:pt x="0" y="396"/>
                    <a:pt x="0" y="433"/>
                  </a:cubicBezTo>
                  <a:cubicBezTo>
                    <a:pt x="127" y="438"/>
                    <a:pt x="286" y="398"/>
                    <a:pt x="354" y="533"/>
                  </a:cubicBezTo>
                  <a:cubicBezTo>
                    <a:pt x="360" y="257"/>
                    <a:pt x="288" y="209"/>
                    <a:pt x="418" y="79"/>
                  </a:cubicBezTo>
                  <a:cubicBezTo>
                    <a:pt x="312" y="76"/>
                    <a:pt x="205" y="81"/>
                    <a:pt x="100" y="69"/>
                  </a:cubicBezTo>
                  <a:cubicBezTo>
                    <a:pt x="89" y="68"/>
                    <a:pt x="91" y="49"/>
                    <a:pt x="82" y="42"/>
                  </a:cubicBezTo>
                  <a:cubicBezTo>
                    <a:pt x="74" y="36"/>
                    <a:pt x="63" y="36"/>
                    <a:pt x="54" y="33"/>
                  </a:cubicBezTo>
                  <a:cubicBezTo>
                    <a:pt x="22" y="1"/>
                    <a:pt x="38" y="0"/>
                    <a:pt x="9" y="15"/>
                  </a:cubicBezTo>
                  <a:close/>
                </a:path>
              </a:pathLst>
            </a:custGeom>
            <a:solidFill>
              <a:srgbClr val="66ff99"/>
            </a:solidFill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09680" y="1828800"/>
              <a:ext cx="5334120" cy="3876480"/>
            </a:xfrm>
            <a:prstGeom prst="rect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uc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+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++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ux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luc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cZ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+       ++          ++          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AP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s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+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equor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+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00400" y="1828800"/>
              <a:ext cx="0" cy="3876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91120" y="1828800"/>
              <a:ext cx="0" cy="3876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34120" y="1828800"/>
              <a:ext cx="0" cy="3876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77120" y="1828800"/>
              <a:ext cx="0" cy="3876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09680" y="3062160"/>
              <a:ext cx="5334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609480" y="334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5654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66880" y="2209680"/>
            <a:ext cx="5867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irefly luciferase (lu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cterial luciferase (lu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nilla luciferase (rlu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equor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ß-galactosidase (lac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creted alkaline phosphatase    (SEAP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ß-glucoronidase ( gu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480" y="3348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Enzym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38280" y="12952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85a0"/>
                </a:solidFill>
                <a:latin typeface="Arial"/>
              </a:rPr>
              <a:t>Quantification of reporter enzyme activity in living cells or cell lys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814400" y="2957400"/>
            <a:ext cx="5334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14400" y="1967040"/>
            <a:ext cx="5881680" cy="33526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iferin /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x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ehydes/NADH+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luc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lenterazine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PGD ® Galacton-Star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P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PPD ®, CSP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r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50280" y="121932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Subst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443400" y="1981080"/>
            <a:ext cx="417672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75040" y="224316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minescent Subs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6720" y="228600"/>
            <a:ext cx="50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692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694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0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554040" y="4724280"/>
            <a:ext cx="3771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st commercial assays are glow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187280" y="1984320"/>
            <a:ext cx="3322440" cy="2511000"/>
            <a:chOff x="1187280" y="1984320"/>
            <a:chExt cx="3322440" cy="2511000"/>
          </a:xfrm>
        </p:grpSpPr>
        <p:sp>
          <p:nvSpPr>
            <p:cNvPr id="713" name=""/>
            <p:cNvSpPr/>
            <p:nvPr/>
          </p:nvSpPr>
          <p:spPr>
            <a:xfrm>
              <a:off x="1187280" y="1984320"/>
              <a:ext cx="128232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RLU/sec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25760" y="231696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835280" y="2556360"/>
              <a:ext cx="0" cy="138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35280" y="3940200"/>
              <a:ext cx="22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49600" y="4107960"/>
              <a:ext cx="8179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81720" y="2921040"/>
              <a:ext cx="2022840" cy="1014120"/>
            </a:xfrm>
            <a:custGeom>
              <a:avLst/>
              <a:gdLst/>
              <a:ahLst/>
              <a:rect l="l" t="t" r="r" b="b"/>
              <a:pathLst>
                <a:path w="2679" h="1045">
                  <a:moveTo>
                    <a:pt x="0" y="1045"/>
                  </a:moveTo>
                  <a:cubicBezTo>
                    <a:pt x="19" y="703"/>
                    <a:pt x="38" y="361"/>
                    <a:pt x="114" y="190"/>
                  </a:cubicBezTo>
                  <a:cubicBezTo>
                    <a:pt x="190" y="19"/>
                    <a:pt x="29" y="38"/>
                    <a:pt x="456" y="19"/>
                  </a:cubicBezTo>
                  <a:cubicBezTo>
                    <a:pt x="883" y="0"/>
                    <a:pt x="2309" y="67"/>
                    <a:pt x="2679" y="76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81920" y="3009600"/>
              <a:ext cx="87732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808080"/>
                  </a:solidFill>
                  <a:latin typeface="Arial"/>
                </a:rPr>
                <a:t>Glow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666720" y="228600"/>
            <a:ext cx="50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631920" y="121932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325760" y="1878120"/>
            <a:ext cx="3903480" cy="2655360"/>
            <a:chOff x="4325760" y="1878120"/>
            <a:chExt cx="3903480" cy="2655360"/>
          </a:xfrm>
        </p:grpSpPr>
        <p:sp>
          <p:nvSpPr>
            <p:cNvPr id="723" name=""/>
            <p:cNvSpPr/>
            <p:nvPr/>
          </p:nvSpPr>
          <p:spPr>
            <a:xfrm>
              <a:off x="4325760" y="1878120"/>
              <a:ext cx="14878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RLU/sec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77800" y="3933360"/>
              <a:ext cx="259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66800" y="4127400"/>
              <a:ext cx="949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7800" y="2620080"/>
              <a:ext cx="1501560" cy="1313280"/>
            </a:xfrm>
            <a:custGeom>
              <a:avLst/>
              <a:gdLst/>
              <a:ahLst/>
              <a:rect l="l" t="t" r="r" b="b"/>
              <a:pathLst>
                <a:path w="2394" h="1947">
                  <a:moveTo>
                    <a:pt x="0" y="1938"/>
                  </a:moveTo>
                  <a:cubicBezTo>
                    <a:pt x="38" y="1553"/>
                    <a:pt x="76" y="1169"/>
                    <a:pt x="114" y="855"/>
                  </a:cubicBezTo>
                  <a:cubicBezTo>
                    <a:pt x="152" y="541"/>
                    <a:pt x="124" y="0"/>
                    <a:pt x="228" y="57"/>
                  </a:cubicBezTo>
                  <a:cubicBezTo>
                    <a:pt x="332" y="114"/>
                    <a:pt x="503" y="902"/>
                    <a:pt x="741" y="1197"/>
                  </a:cubicBezTo>
                  <a:cubicBezTo>
                    <a:pt x="979" y="1492"/>
                    <a:pt x="1378" y="1701"/>
                    <a:pt x="1653" y="1824"/>
                  </a:cubicBezTo>
                  <a:cubicBezTo>
                    <a:pt x="1928" y="1947"/>
                    <a:pt x="2271" y="1919"/>
                    <a:pt x="2394" y="193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77800" y="4141800"/>
              <a:ext cx="12675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 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59160" y="410976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92000" y="2644560"/>
              <a:ext cx="113724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2785a0"/>
                  </a:solidFill>
                  <a:latin typeface="Arial"/>
                </a:rPr>
                <a:t>Flash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4582800" y="4724280"/>
            <a:ext cx="409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equorin Assay is flash-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44400" y="21600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Reporter Gene Assay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67760" y="99072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85a0"/>
                </a:solidFill>
                <a:latin typeface="Arial"/>
              </a:rPr>
              <a:t>Standard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24400" y="144792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mple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144792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47600" y="1336680"/>
            <a:ext cx="3118680" cy="4606920"/>
            <a:chOff x="147600" y="1336680"/>
            <a:chExt cx="3118680" cy="4606920"/>
          </a:xfrm>
        </p:grpSpPr>
        <p:sp>
          <p:nvSpPr>
            <p:cNvPr id="736" name=""/>
            <p:cNvSpPr/>
            <p:nvPr/>
          </p:nvSpPr>
          <p:spPr>
            <a:xfrm>
              <a:off x="228600" y="426420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8600" y="455940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4680" y="229716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ed c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1000" y="492120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900000" y="2806560"/>
              <a:ext cx="166680" cy="990360"/>
              <a:chOff x="900000" y="2806560"/>
              <a:chExt cx="166680" cy="990360"/>
            </a:xfrm>
          </p:grpSpPr>
          <p:sp>
            <p:nvSpPr>
              <p:cNvPr id="741" name=""/>
              <p:cNvSpPr/>
              <p:nvPr/>
            </p:nvSpPr>
            <p:spPr>
              <a:xfrm>
                <a:off x="900000" y="2806560"/>
                <a:ext cx="166680" cy="968400"/>
              </a:xfrm>
              <a:prstGeom prst="can">
                <a:avLst>
                  <a:gd name="adj" fmla="val 7041"/>
                </a:avLst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00000" y="3579480"/>
                <a:ext cx="166680" cy="217440"/>
              </a:xfrm>
              <a:prstGeom prst="can">
                <a:avLst>
                  <a:gd name="adj" fmla="val 25597"/>
                </a:avLst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228600" y="327492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69480" y="2057400"/>
              <a:ext cx="1296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d stimu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ioac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olecule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rug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orm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528480" y="4027320"/>
              <a:ext cx="1035360" cy="725760"/>
              <a:chOff x="528480" y="4027320"/>
              <a:chExt cx="1035360" cy="72576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rcRect l="15687" t="23368" r="21629" b="16048"/>
              <a:stretch/>
            </p:blipFill>
            <p:spPr>
              <a:xfrm>
                <a:off x="528480" y="4027320"/>
                <a:ext cx="103536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608040" y="4100400"/>
                <a:ext cx="903240" cy="60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596880" y="4411800"/>
                <a:ext cx="914400" cy="272520"/>
                <a:chOff x="596880" y="4411800"/>
                <a:chExt cx="914400" cy="2725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96880" y="4411800"/>
                  <a:ext cx="301680" cy="26820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905040" y="4411800"/>
                  <a:ext cx="301680" cy="26820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209600" y="4416480"/>
                  <a:ext cx="301680" cy="26784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03360" y="4121280"/>
                <a:ext cx="914400" cy="272520"/>
                <a:chOff x="603360" y="4121280"/>
                <a:chExt cx="914400" cy="2725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603360" y="4121280"/>
                  <a:ext cx="301680" cy="26820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911520" y="4121280"/>
                  <a:ext cx="301680" cy="26820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216080" y="4125960"/>
                  <a:ext cx="301680" cy="26784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6" name=""/>
            <p:cNvGrpSpPr/>
            <p:nvPr/>
          </p:nvGrpSpPr>
          <p:grpSpPr>
            <a:xfrm>
              <a:off x="2209320" y="3878280"/>
              <a:ext cx="304920" cy="299880"/>
              <a:chOff x="2209320" y="3878280"/>
              <a:chExt cx="304920" cy="299880"/>
            </a:xfrm>
          </p:grpSpPr>
          <p:sp>
            <p:nvSpPr>
              <p:cNvPr id="757" name=""/>
              <p:cNvSpPr/>
              <p:nvPr/>
            </p:nvSpPr>
            <p:spPr>
              <a:xfrm>
                <a:off x="2514240" y="387828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1600" y="387828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209320" y="387828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1413720" y="4464000"/>
              <a:ext cx="185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rowth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 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7600" y="1828800"/>
              <a:ext cx="307044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36680"/>
              <a:ext cx="349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079800" y="1346040"/>
            <a:ext cx="2784600" cy="4597560"/>
            <a:chOff x="3079800" y="1346040"/>
            <a:chExt cx="2784600" cy="4597560"/>
          </a:xfrm>
        </p:grpSpPr>
        <p:grpSp>
          <p:nvGrpSpPr>
            <p:cNvPr id="764" name=""/>
            <p:cNvGrpSpPr/>
            <p:nvPr/>
          </p:nvGrpSpPr>
          <p:grpSpPr>
            <a:xfrm>
              <a:off x="3657600" y="3429000"/>
              <a:ext cx="166680" cy="990360"/>
              <a:chOff x="3657600" y="3429000"/>
              <a:chExt cx="166680" cy="990360"/>
            </a:xfrm>
          </p:grpSpPr>
          <p:sp>
            <p:nvSpPr>
              <p:cNvPr id="765" name=""/>
              <p:cNvSpPr/>
              <p:nvPr/>
            </p:nvSpPr>
            <p:spPr>
              <a:xfrm>
                <a:off x="3657600" y="3429000"/>
                <a:ext cx="166680" cy="968400"/>
              </a:xfrm>
              <a:prstGeom prst="can">
                <a:avLst>
                  <a:gd name="adj" fmla="val 7041"/>
                </a:avLst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657600" y="4201920"/>
                <a:ext cx="166680" cy="217440"/>
              </a:xfrm>
              <a:prstGeom prst="can">
                <a:avLst>
                  <a:gd name="adj" fmla="val 25597"/>
                </a:avLst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3283560" y="234144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v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72760" y="462924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entri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u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19720" y="3444840"/>
              <a:ext cx="166680" cy="968400"/>
            </a:xfrm>
            <a:prstGeom prst="can">
              <a:avLst>
                <a:gd name="adj" fmla="val 7041"/>
              </a:avLst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19720" y="4341960"/>
              <a:ext cx="166680" cy="93600"/>
            </a:xfrm>
            <a:prstGeom prst="can">
              <a:avLst>
                <a:gd name="adj" fmla="val 25597"/>
              </a:avLst>
            </a:prstGeom>
            <a:solidFill>
              <a:srgbClr val="ff5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27200" y="2341440"/>
              <a:ext cx="153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ysis re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50 -100µ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0600" y="3917880"/>
              <a:ext cx="609480" cy="136440"/>
            </a:xfrm>
            <a:prstGeom prst="rightArrow">
              <a:avLst>
                <a:gd name="adj1" fmla="val 50000"/>
                <a:gd name="adj2" fmla="val 1116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22960" y="466236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cub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19720" y="4137120"/>
              <a:ext cx="166680" cy="217440"/>
            </a:xfrm>
            <a:prstGeom prst="can">
              <a:avLst>
                <a:gd name="adj" fmla="val 25597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76720" y="1828800"/>
              <a:ext cx="253044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95680" y="306396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9800" y="1346040"/>
              <a:ext cx="349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227200" y="1905120"/>
            <a:ext cx="3723120" cy="4039920"/>
            <a:chOff x="5227200" y="1905120"/>
            <a:chExt cx="3723120" cy="4039920"/>
          </a:xfrm>
        </p:grpSpPr>
        <p:sp>
          <p:nvSpPr>
            <p:cNvPr id="779" name=""/>
            <p:cNvSpPr/>
            <p:nvPr/>
          </p:nvSpPr>
          <p:spPr>
            <a:xfrm>
              <a:off x="6691320" y="3063960"/>
              <a:ext cx="166680" cy="968400"/>
            </a:xfrm>
            <a:prstGeom prst="can">
              <a:avLst>
                <a:gd name="adj" fmla="val 7041"/>
              </a:avLst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691320" y="3836880"/>
              <a:ext cx="166680" cy="217440"/>
            </a:xfrm>
            <a:prstGeom prst="can">
              <a:avLst>
                <a:gd name="adj" fmla="val 25597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48480" y="3057480"/>
              <a:ext cx="166680" cy="968400"/>
            </a:xfrm>
            <a:prstGeom prst="can">
              <a:avLst>
                <a:gd name="adj" fmla="val 7041"/>
              </a:avLst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48480" y="3830760"/>
              <a:ext cx="166680" cy="217440"/>
            </a:xfrm>
            <a:prstGeom prst="can">
              <a:avLst>
                <a:gd name="adj" fmla="val 25597"/>
              </a:avLst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62880" y="2523960"/>
              <a:ext cx="152280" cy="397080"/>
            </a:xfrm>
            <a:prstGeom prst="downArrow">
              <a:avLst>
                <a:gd name="adj1" fmla="val 50000"/>
                <a:gd name="adj2" fmla="val 651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18040" y="1905120"/>
              <a:ext cx="123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ucif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0µ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16720" y="3591000"/>
              <a:ext cx="451080" cy="43956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2"/>
            <a:srcRect l="15687" t="23368" r="21629" b="16048"/>
            <a:stretch/>
          </p:blipFill>
          <p:spPr>
            <a:xfrm>
              <a:off x="6039000" y="4495680"/>
              <a:ext cx="1035000" cy="7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3"/>
            <a:srcRect l="15687" t="23368" r="21629" b="16048"/>
            <a:stretch/>
          </p:blipFill>
          <p:spPr>
            <a:xfrm>
              <a:off x="7410600" y="4505400"/>
              <a:ext cx="1035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8102520" y="4352760"/>
              <a:ext cx="451080" cy="43992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67280" y="2971800"/>
              <a:ext cx="1371600" cy="236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34280" y="2971800"/>
              <a:ext cx="1371600" cy="236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3924360"/>
              <a:ext cx="690480" cy="266760"/>
            </a:xfrm>
            <a:custGeom>
              <a:avLst/>
              <a:gdLst>
                <a:gd name="textAreaLeft" fmla="*/ 120600 w 690480"/>
                <a:gd name="textAreaRight" fmla="*/ 500760 w 690480"/>
                <a:gd name="textAreaTop" fmla="*/ 35640 h 266760"/>
                <a:gd name="textAreaBottom" fmla="*/ 23112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17840" y="246384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27200" y="3057480"/>
              <a:ext cx="100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iqu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-20µ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241760" y="55767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58000" y="5537160"/>
              <a:ext cx="349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228600" y="426420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455940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4680" y="22971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ad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1000" y="49212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900000" y="2806560"/>
            <a:ext cx="166680" cy="990360"/>
            <a:chOff x="900000" y="2806560"/>
            <a:chExt cx="166680" cy="990360"/>
          </a:xfrm>
        </p:grpSpPr>
        <p:sp>
          <p:nvSpPr>
            <p:cNvPr id="801" name=""/>
            <p:cNvSpPr/>
            <p:nvPr/>
          </p:nvSpPr>
          <p:spPr>
            <a:xfrm>
              <a:off x="900000" y="2806560"/>
              <a:ext cx="166680" cy="968400"/>
            </a:xfrm>
            <a:prstGeom prst="can">
              <a:avLst>
                <a:gd name="adj" fmla="val 7041"/>
              </a:avLst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00000" y="3579480"/>
              <a:ext cx="166680" cy="217440"/>
            </a:xfrm>
            <a:prstGeom prst="can">
              <a:avLst>
                <a:gd name="adj" fmla="val 25597"/>
              </a:avLst>
            </a:prstGeom>
            <a:solidFill>
              <a:srgbClr val="ff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28600" y="3274920"/>
            <a:ext cx="29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69480" y="20574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 stimu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oa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lecu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ug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m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209320" y="3878280"/>
            <a:ext cx="304920" cy="299880"/>
            <a:chOff x="2209320" y="3878280"/>
            <a:chExt cx="304920" cy="299880"/>
          </a:xfrm>
        </p:grpSpPr>
        <p:sp>
          <p:nvSpPr>
            <p:cNvPr id="806" name=""/>
            <p:cNvSpPr/>
            <p:nvPr/>
          </p:nvSpPr>
          <p:spPr>
            <a:xfrm>
              <a:off x="2514240" y="38782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61600" y="38782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09320" y="38782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1413720" y="4464000"/>
            <a:ext cx="185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t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7600" y="1828800"/>
            <a:ext cx="3070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644400" y="4067280"/>
            <a:ext cx="1035000" cy="7254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rcRect l="15687" t="23368" r="21629" b="16048"/>
          <a:stretch/>
        </p:blipFill>
        <p:spPr>
          <a:xfrm>
            <a:off x="3463920" y="3746520"/>
            <a:ext cx="1035000" cy="725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489480" y="3276720"/>
            <a:ext cx="152280" cy="396720"/>
          </a:xfrm>
          <a:prstGeom prst="downArrow">
            <a:avLst>
              <a:gd name="adj1" fmla="val 50000"/>
              <a:gd name="adj2" fmla="val 651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45000" y="304812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sis + Luciferase re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 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97360" y="3852720"/>
            <a:ext cx="609840" cy="136800"/>
          </a:xfrm>
          <a:prstGeom prst="rightArrow">
            <a:avLst>
              <a:gd name="adj1" fmla="val 50000"/>
              <a:gd name="adj2" fmla="val 11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59400" y="398952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7767720" y="3594240"/>
            <a:ext cx="995400" cy="841320"/>
            <a:chOff x="7767720" y="3594240"/>
            <a:chExt cx="995400" cy="841320"/>
          </a:xfrm>
        </p:grpSpPr>
        <p:sp>
          <p:nvSpPr>
            <p:cNvPr id="818" name=""/>
            <p:cNvSpPr/>
            <p:nvPr/>
          </p:nvSpPr>
          <p:spPr>
            <a:xfrm flipV="1">
              <a:off x="7767720" y="3594240"/>
              <a:ext cx="0" cy="83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67720" y="4433760"/>
              <a:ext cx="995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24680" y="3911760"/>
              <a:ext cx="758880" cy="45720"/>
            </a:xfrm>
            <a:custGeom>
              <a:avLst/>
              <a:gdLst/>
              <a:ahLst/>
              <a:rect l="l" t="t" r="r" b="b"/>
              <a:pathLst>
                <a:path w="478" h="29">
                  <a:moveTo>
                    <a:pt x="0" y="10"/>
                  </a:moveTo>
                  <a:cubicBezTo>
                    <a:pt x="14" y="9"/>
                    <a:pt x="45" y="5"/>
                    <a:pt x="78" y="4"/>
                  </a:cubicBezTo>
                  <a:cubicBezTo>
                    <a:pt x="111" y="3"/>
                    <a:pt x="131" y="0"/>
                    <a:pt x="198" y="4"/>
                  </a:cubicBezTo>
                  <a:cubicBezTo>
                    <a:pt x="265" y="8"/>
                    <a:pt x="420" y="24"/>
                    <a:pt x="478" y="29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800680" y="40006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for 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360600" y="3048120"/>
            <a:ext cx="5554800" cy="15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99080" y="3657600"/>
            <a:ext cx="451080" cy="43956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4400" y="21600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Reporter Gene Assay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871240" y="990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85a0"/>
                </a:solidFill>
                <a:latin typeface="Arial"/>
              </a:rPr>
              <a:t>Homogenous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66680" y="144792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53040" y="24400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133668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99080" y="2440080"/>
            <a:ext cx="34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971880" y="5105520"/>
            <a:ext cx="302256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71880" y="3753000"/>
            <a:ext cx="30225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654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94480" y="16765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85a0"/>
                </a:solidFill>
                <a:latin typeface="Arial"/>
              </a:rPr>
              <a:t>Dual Luciferase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8720" y="34920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Co- Reporter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2830680"/>
            <a:ext cx="37940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ntification of enzyme activity in living cells or cell lys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fly luciferase (lu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al normalisation with a co-repo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nilla luciferase (rlu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08200" y="2860560"/>
            <a:ext cx="19713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8720" y="4257720"/>
            <a:ext cx="189864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268280" y="5562720"/>
            <a:ext cx="2312640" cy="487080"/>
            <a:chOff x="1268280" y="5562720"/>
            <a:chExt cx="2312640" cy="487080"/>
          </a:xfrm>
        </p:grpSpPr>
        <p:sp>
          <p:nvSpPr>
            <p:cNvPr id="87" name=""/>
            <p:cNvSpPr/>
            <p:nvPr/>
          </p:nvSpPr>
          <p:spPr>
            <a:xfrm>
              <a:off x="1268280" y="5562720"/>
              <a:ext cx="1971000" cy="487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45320" y="5686920"/>
              <a:ext cx="22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ntification of Ca+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38080" y="5267160"/>
            <a:ext cx="2119320" cy="371520"/>
            <a:chOff x="838080" y="5267160"/>
            <a:chExt cx="2119320" cy="371520"/>
          </a:xfrm>
        </p:grpSpPr>
        <p:sp>
          <p:nvSpPr>
            <p:cNvPr id="90" name=""/>
            <p:cNvSpPr/>
            <p:nvPr/>
          </p:nvSpPr>
          <p:spPr>
            <a:xfrm>
              <a:off x="838080" y="5267160"/>
              <a:ext cx="2119320" cy="371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0080" y="5361840"/>
              <a:ext cx="187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nvironmental Te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85800" y="4952880"/>
            <a:ext cx="2120760" cy="371520"/>
            <a:chOff x="685800" y="4952880"/>
            <a:chExt cx="2120760" cy="371520"/>
          </a:xfrm>
        </p:grpSpPr>
        <p:sp>
          <p:nvSpPr>
            <p:cNvPr id="93" name=""/>
            <p:cNvSpPr/>
            <p:nvPr/>
          </p:nvSpPr>
          <p:spPr>
            <a:xfrm>
              <a:off x="685800" y="4952880"/>
              <a:ext cx="2120760" cy="371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0080" y="5023800"/>
              <a:ext cx="191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(P)H based ass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90680" y="1768320"/>
            <a:ext cx="4303800" cy="9874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981080"/>
            <a:ext cx="42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porter Gene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89560" y="2664000"/>
            <a:ext cx="2922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9560" y="2755800"/>
            <a:ext cx="24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A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4522680"/>
            <a:ext cx="2009520" cy="581400"/>
            <a:chOff x="542880" y="4522680"/>
            <a:chExt cx="2009520" cy="581400"/>
          </a:xfrm>
        </p:grpSpPr>
        <p:sp>
          <p:nvSpPr>
            <p:cNvPr id="100" name=""/>
            <p:cNvSpPr/>
            <p:nvPr/>
          </p:nvSpPr>
          <p:spPr>
            <a:xfrm>
              <a:off x="542880" y="4522680"/>
              <a:ext cx="1972080" cy="486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5160" y="4645080"/>
              <a:ext cx="1857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ellular Luminesc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01480" y="4103640"/>
            <a:ext cx="1971360" cy="487440"/>
            <a:chOff x="501480" y="4103640"/>
            <a:chExt cx="1971360" cy="487440"/>
          </a:xfrm>
        </p:grpSpPr>
        <p:sp>
          <p:nvSpPr>
            <p:cNvPr id="103" name=""/>
            <p:cNvSpPr/>
            <p:nvPr/>
          </p:nvSpPr>
          <p:spPr>
            <a:xfrm>
              <a:off x="501480" y="4103640"/>
              <a:ext cx="1971000" cy="487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5720" y="4270320"/>
              <a:ext cx="170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NA-probe ass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09560" y="3683160"/>
            <a:ext cx="1970280" cy="487080"/>
            <a:chOff x="709560" y="3683160"/>
            <a:chExt cx="1970280" cy="487080"/>
          </a:xfrm>
        </p:grpSpPr>
        <p:sp>
          <p:nvSpPr>
            <p:cNvPr id="106" name=""/>
            <p:cNvSpPr/>
            <p:nvPr/>
          </p:nvSpPr>
          <p:spPr>
            <a:xfrm>
              <a:off x="709560" y="3683160"/>
              <a:ext cx="1970280" cy="487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49760" y="3806640"/>
              <a:ext cx="147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mmunoass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66960" y="5397480"/>
            <a:ext cx="1500120" cy="393840"/>
            <a:chOff x="2766960" y="5397480"/>
            <a:chExt cx="1500120" cy="393840"/>
          </a:xfrm>
        </p:grpSpPr>
        <p:sp>
          <p:nvSpPr>
            <p:cNvPr id="109" name=""/>
            <p:cNvSpPr/>
            <p:nvPr/>
          </p:nvSpPr>
          <p:spPr>
            <a:xfrm>
              <a:off x="2766960" y="5397480"/>
              <a:ext cx="1500120" cy="393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79280" y="54957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ny more 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27000" y="318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b2b2b2"/>
                </a:solidFill>
                <a:latin typeface="Arial"/>
              </a:rPr>
              <a:t>Luminescent Research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0800" y="4468680"/>
            <a:ext cx="71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81560" y="3379680"/>
            <a:ext cx="71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4960" y="275580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80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074400">
            <a:off x="4211280" y="3954240"/>
            <a:ext cx="1433520" cy="369720"/>
          </a:xfrm>
          <a:custGeom>
            <a:avLst/>
            <a:gdLst>
              <a:gd name="textAreaLeft" fmla="*/ 257040 w 1433520"/>
              <a:gd name="textAreaRight" fmla="*/ 1033200 w 1433520"/>
              <a:gd name="textAreaTop" fmla="*/ 49320 h 369720"/>
              <a:gd name="textAreaBottom" fmla="*/ 320400 h 36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48" hR="21600" stAng="10800000" swAng="-5400000"/>
                <a:lnTo>
                  <a:pt x="11692" y="21600"/>
                </a:lnTo>
                <a:arcTo wR="7748" hR="21600" stAng="5400000" swAng="-1113671"/>
                <a:lnTo>
                  <a:pt x="19147" y="15769"/>
                </a:lnTo>
                <a:lnTo>
                  <a:pt x="17468" y="0"/>
                </a:lnTo>
                <a:lnTo>
                  <a:pt x="10883" y="15769"/>
                </a:lnTo>
                <a:lnTo>
                  <a:pt x="13043" y="15769"/>
                </a:lnTo>
                <a:arcTo wR="7748" hR="21600" stAng="4286329" swAng="790089"/>
                <a:lnTo>
                  <a:pt x="9720" y="20889"/>
                </a:lnTo>
                <a:arcTo wR="7748" hR="21600" stAng="5723582" swAng="5076418"/>
                <a:close/>
              </a:path>
              <a:path fill="darkenLess" w="21600" h="21600">
                <a:moveTo>
                  <a:pt x="0" y="0"/>
                </a:moveTo>
                <a:arcTo wR="7748" hR="21600" stAng="10800000" swAng="-5400000"/>
                <a:lnTo>
                  <a:pt x="11692" y="21600"/>
                </a:lnTo>
                <a:arcTo wR="7748" hR="21600" stAng="5400000" swAng="323582"/>
                <a:lnTo>
                  <a:pt x="9720" y="20889"/>
                </a:lnTo>
                <a:arcTo wR="7748" hR="21600" stAng="5723582" swAng="507641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117800">
            <a:off x="2638080" y="4024080"/>
            <a:ext cx="1577880" cy="298440"/>
          </a:xfrm>
          <a:custGeom>
            <a:avLst/>
            <a:gdLst>
              <a:gd name="textAreaLeft" fmla="*/ 282960 w 1577880"/>
              <a:gd name="textAreaRight" fmla="*/ 1137240 w 157788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48" hR="21600" stAng="10800000" swAng="-5400000"/>
                <a:lnTo>
                  <a:pt x="11692" y="21600"/>
                </a:lnTo>
                <a:arcTo wR="7748" hR="21600" stAng="5400000" swAng="-1113671"/>
                <a:lnTo>
                  <a:pt x="19147" y="15769"/>
                </a:lnTo>
                <a:lnTo>
                  <a:pt x="17468" y="0"/>
                </a:lnTo>
                <a:lnTo>
                  <a:pt x="10883" y="15769"/>
                </a:lnTo>
                <a:lnTo>
                  <a:pt x="13043" y="15769"/>
                </a:lnTo>
                <a:arcTo wR="7748" hR="21600" stAng="4286329" swAng="790089"/>
                <a:lnTo>
                  <a:pt x="9720" y="20889"/>
                </a:lnTo>
                <a:arcTo wR="7748" hR="21600" stAng="5723582" swAng="5076418"/>
                <a:close/>
              </a:path>
              <a:path fill="darkenLess" w="21600" h="21600">
                <a:moveTo>
                  <a:pt x="0" y="0"/>
                </a:moveTo>
                <a:arcTo wR="7748" hR="21600" stAng="10800000" swAng="-5400000"/>
                <a:lnTo>
                  <a:pt x="11692" y="21600"/>
                </a:lnTo>
                <a:arcTo wR="7748" hR="21600" stAng="5400000" swAng="323582"/>
                <a:lnTo>
                  <a:pt x="9720" y="20889"/>
                </a:lnTo>
                <a:arcTo wR="7748" hR="21600" stAng="5723582" swAng="5076418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350400">
            <a:off x="3391200" y="3126600"/>
            <a:ext cx="1806480" cy="880920"/>
          </a:xfrm>
          <a:custGeom>
            <a:avLst/>
            <a:gdLst>
              <a:gd name="textAreaLeft" fmla="*/ 324000 w 1806480"/>
              <a:gd name="textAreaRight" fmla="*/ 1301760 w 1806480"/>
              <a:gd name="textAreaTop" fmla="*/ 117720 h 880920"/>
              <a:gd name="textAreaBottom" fmla="*/ 76320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48" hR="21600" stAng="10800000" swAng="-5400000"/>
                <a:lnTo>
                  <a:pt x="11692" y="21600"/>
                </a:lnTo>
                <a:arcTo wR="7748" hR="21600" stAng="5400000" swAng="-1113671"/>
                <a:lnTo>
                  <a:pt x="19147" y="15769"/>
                </a:lnTo>
                <a:lnTo>
                  <a:pt x="17468" y="0"/>
                </a:lnTo>
                <a:lnTo>
                  <a:pt x="10883" y="15769"/>
                </a:lnTo>
                <a:lnTo>
                  <a:pt x="13043" y="15769"/>
                </a:lnTo>
                <a:arcTo wR="7748" hR="21600" stAng="4286329" swAng="790089"/>
                <a:lnTo>
                  <a:pt x="9720" y="20889"/>
                </a:lnTo>
                <a:arcTo wR="7748" hR="21600" stAng="5723582" swAng="5076418"/>
                <a:close/>
              </a:path>
              <a:path fill="darkenLess" w="21600" h="21600">
                <a:moveTo>
                  <a:pt x="0" y="0"/>
                </a:moveTo>
                <a:arcTo wR="7748" hR="21600" stAng="10800000" swAng="-5400000"/>
                <a:lnTo>
                  <a:pt x="11692" y="21600"/>
                </a:lnTo>
                <a:arcTo wR="7748" hR="21600" stAng="5400000" swAng="323582"/>
                <a:lnTo>
                  <a:pt x="9720" y="20889"/>
                </a:lnTo>
                <a:arcTo wR="7748" hR="21600" stAng="5723582" swAng="5076418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119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121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19360" y="5038560"/>
            <a:ext cx="2119320" cy="371880"/>
            <a:chOff x="3519360" y="5038560"/>
            <a:chExt cx="2119320" cy="371880"/>
          </a:xfrm>
        </p:grpSpPr>
        <p:sp>
          <p:nvSpPr>
            <p:cNvPr id="139" name=""/>
            <p:cNvSpPr/>
            <p:nvPr/>
          </p:nvSpPr>
          <p:spPr>
            <a:xfrm>
              <a:off x="3519360" y="5038560"/>
              <a:ext cx="2119320" cy="371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1360" y="5133960"/>
              <a:ext cx="187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5654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98000" y="1981080"/>
            <a:ext cx="5590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ransfection of mammalien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50880" y="4906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25920" y="126036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85a0"/>
                </a:solidFill>
                <a:latin typeface="Arial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2000" y="2590920"/>
            <a:ext cx="29718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ansf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91120" y="3733920"/>
            <a:ext cx="4190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porter enzyme 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 be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945000">
            <a:off x="685440" y="2895480"/>
            <a:ext cx="1828800" cy="2590920"/>
          </a:xfrm>
          <a:custGeom>
            <a:avLst/>
            <a:gdLst/>
            <a:ahLst/>
            <a:rect l="l" t="t" r="r" b="b"/>
            <a:pathLst>
              <a:path w="3802" h="4252">
                <a:moveTo>
                  <a:pt x="2756" y="40"/>
                </a:moveTo>
                <a:cubicBezTo>
                  <a:pt x="2193" y="0"/>
                  <a:pt x="2532" y="14"/>
                  <a:pt x="1736" y="28"/>
                </a:cubicBezTo>
                <a:cubicBezTo>
                  <a:pt x="1675" y="43"/>
                  <a:pt x="1644" y="67"/>
                  <a:pt x="1592" y="100"/>
                </a:cubicBezTo>
                <a:cubicBezTo>
                  <a:pt x="1546" y="129"/>
                  <a:pt x="1491" y="152"/>
                  <a:pt x="1448" y="184"/>
                </a:cubicBezTo>
                <a:cubicBezTo>
                  <a:pt x="1402" y="219"/>
                  <a:pt x="1361" y="267"/>
                  <a:pt x="1316" y="304"/>
                </a:cubicBezTo>
                <a:cubicBezTo>
                  <a:pt x="1305" y="313"/>
                  <a:pt x="1291" y="319"/>
                  <a:pt x="1280" y="328"/>
                </a:cubicBezTo>
                <a:cubicBezTo>
                  <a:pt x="1239" y="359"/>
                  <a:pt x="1198" y="390"/>
                  <a:pt x="1160" y="424"/>
                </a:cubicBezTo>
                <a:cubicBezTo>
                  <a:pt x="1059" y="514"/>
                  <a:pt x="1055" y="563"/>
                  <a:pt x="932" y="604"/>
                </a:cubicBezTo>
                <a:cubicBezTo>
                  <a:pt x="810" y="695"/>
                  <a:pt x="876" y="671"/>
                  <a:pt x="740" y="688"/>
                </a:cubicBezTo>
                <a:cubicBezTo>
                  <a:pt x="712" y="700"/>
                  <a:pt x="680" y="705"/>
                  <a:pt x="656" y="724"/>
                </a:cubicBezTo>
                <a:cubicBezTo>
                  <a:pt x="642" y="735"/>
                  <a:pt x="643" y="758"/>
                  <a:pt x="632" y="772"/>
                </a:cubicBezTo>
                <a:cubicBezTo>
                  <a:pt x="602" y="809"/>
                  <a:pt x="547" y="846"/>
                  <a:pt x="524" y="892"/>
                </a:cubicBezTo>
                <a:cubicBezTo>
                  <a:pt x="458" y="1024"/>
                  <a:pt x="529" y="957"/>
                  <a:pt x="440" y="1024"/>
                </a:cubicBezTo>
                <a:cubicBezTo>
                  <a:pt x="421" y="1120"/>
                  <a:pt x="400" y="1200"/>
                  <a:pt x="356" y="1288"/>
                </a:cubicBezTo>
                <a:cubicBezTo>
                  <a:pt x="337" y="1399"/>
                  <a:pt x="308" y="1529"/>
                  <a:pt x="272" y="1636"/>
                </a:cubicBezTo>
                <a:cubicBezTo>
                  <a:pt x="257" y="1758"/>
                  <a:pt x="219" y="1881"/>
                  <a:pt x="176" y="1996"/>
                </a:cubicBezTo>
                <a:cubicBezTo>
                  <a:pt x="158" y="2143"/>
                  <a:pt x="98" y="2281"/>
                  <a:pt x="80" y="2428"/>
                </a:cubicBezTo>
                <a:cubicBezTo>
                  <a:pt x="53" y="2641"/>
                  <a:pt x="31" y="2849"/>
                  <a:pt x="20" y="3064"/>
                </a:cubicBezTo>
                <a:cubicBezTo>
                  <a:pt x="27" y="3256"/>
                  <a:pt x="0" y="3370"/>
                  <a:pt x="104" y="3508"/>
                </a:cubicBezTo>
                <a:cubicBezTo>
                  <a:pt x="133" y="3626"/>
                  <a:pt x="91" y="3482"/>
                  <a:pt x="152" y="3604"/>
                </a:cubicBezTo>
                <a:cubicBezTo>
                  <a:pt x="159" y="3619"/>
                  <a:pt x="157" y="3637"/>
                  <a:pt x="164" y="3652"/>
                </a:cubicBezTo>
                <a:cubicBezTo>
                  <a:pt x="173" y="3670"/>
                  <a:pt x="189" y="3683"/>
                  <a:pt x="200" y="3700"/>
                </a:cubicBezTo>
                <a:cubicBezTo>
                  <a:pt x="260" y="3796"/>
                  <a:pt x="312" y="3860"/>
                  <a:pt x="392" y="3940"/>
                </a:cubicBezTo>
                <a:cubicBezTo>
                  <a:pt x="425" y="3973"/>
                  <a:pt x="477" y="3981"/>
                  <a:pt x="512" y="4012"/>
                </a:cubicBezTo>
                <a:cubicBezTo>
                  <a:pt x="524" y="4023"/>
                  <a:pt x="585" y="4095"/>
                  <a:pt x="620" y="4108"/>
                </a:cubicBezTo>
                <a:cubicBezTo>
                  <a:pt x="678" y="4129"/>
                  <a:pt x="740" y="4139"/>
                  <a:pt x="800" y="4156"/>
                </a:cubicBezTo>
                <a:cubicBezTo>
                  <a:pt x="900" y="4222"/>
                  <a:pt x="1114" y="4230"/>
                  <a:pt x="1232" y="4240"/>
                </a:cubicBezTo>
                <a:cubicBezTo>
                  <a:pt x="1380" y="4235"/>
                  <a:pt x="1532" y="4252"/>
                  <a:pt x="1676" y="4216"/>
                </a:cubicBezTo>
                <a:cubicBezTo>
                  <a:pt x="1756" y="4196"/>
                  <a:pt x="1808" y="4110"/>
                  <a:pt x="1868" y="4060"/>
                </a:cubicBezTo>
                <a:cubicBezTo>
                  <a:pt x="1941" y="3999"/>
                  <a:pt x="2016" y="3982"/>
                  <a:pt x="2108" y="3964"/>
                </a:cubicBezTo>
                <a:cubicBezTo>
                  <a:pt x="2171" y="3917"/>
                  <a:pt x="2243" y="3896"/>
                  <a:pt x="2312" y="3856"/>
                </a:cubicBezTo>
                <a:cubicBezTo>
                  <a:pt x="2392" y="3749"/>
                  <a:pt x="2379" y="3726"/>
                  <a:pt x="2492" y="3688"/>
                </a:cubicBezTo>
                <a:cubicBezTo>
                  <a:pt x="2496" y="3664"/>
                  <a:pt x="2494" y="3638"/>
                  <a:pt x="2504" y="3616"/>
                </a:cubicBezTo>
                <a:cubicBezTo>
                  <a:pt x="2511" y="3600"/>
                  <a:pt x="2530" y="3594"/>
                  <a:pt x="2540" y="3580"/>
                </a:cubicBezTo>
                <a:cubicBezTo>
                  <a:pt x="2562" y="3549"/>
                  <a:pt x="2581" y="3517"/>
                  <a:pt x="2600" y="3484"/>
                </a:cubicBezTo>
                <a:cubicBezTo>
                  <a:pt x="2633" y="3427"/>
                  <a:pt x="2659" y="3360"/>
                  <a:pt x="2696" y="3304"/>
                </a:cubicBezTo>
                <a:cubicBezTo>
                  <a:pt x="2718" y="3271"/>
                  <a:pt x="2750" y="3244"/>
                  <a:pt x="2768" y="3208"/>
                </a:cubicBezTo>
                <a:cubicBezTo>
                  <a:pt x="2794" y="3156"/>
                  <a:pt x="2823" y="3091"/>
                  <a:pt x="2852" y="3040"/>
                </a:cubicBezTo>
                <a:cubicBezTo>
                  <a:pt x="2900" y="2956"/>
                  <a:pt x="2878" y="3030"/>
                  <a:pt x="2912" y="2944"/>
                </a:cubicBezTo>
                <a:cubicBezTo>
                  <a:pt x="2921" y="2921"/>
                  <a:pt x="2926" y="2895"/>
                  <a:pt x="2936" y="2872"/>
                </a:cubicBezTo>
                <a:cubicBezTo>
                  <a:pt x="2974" y="2787"/>
                  <a:pt x="3057" y="2684"/>
                  <a:pt x="3104" y="2620"/>
                </a:cubicBezTo>
                <a:cubicBezTo>
                  <a:pt x="3128" y="2588"/>
                  <a:pt x="3176" y="2524"/>
                  <a:pt x="3176" y="2524"/>
                </a:cubicBezTo>
                <a:cubicBezTo>
                  <a:pt x="3208" y="2428"/>
                  <a:pt x="3212" y="2400"/>
                  <a:pt x="3272" y="2320"/>
                </a:cubicBezTo>
                <a:cubicBezTo>
                  <a:pt x="3280" y="2288"/>
                  <a:pt x="3283" y="2254"/>
                  <a:pt x="3296" y="2224"/>
                </a:cubicBezTo>
                <a:cubicBezTo>
                  <a:pt x="3315" y="2181"/>
                  <a:pt x="3352" y="2148"/>
                  <a:pt x="3368" y="2104"/>
                </a:cubicBezTo>
                <a:cubicBezTo>
                  <a:pt x="3543" y="1623"/>
                  <a:pt x="3213" y="2317"/>
                  <a:pt x="3464" y="1816"/>
                </a:cubicBezTo>
                <a:cubicBezTo>
                  <a:pt x="3485" y="1712"/>
                  <a:pt x="3489" y="1611"/>
                  <a:pt x="3536" y="1516"/>
                </a:cubicBezTo>
                <a:cubicBezTo>
                  <a:pt x="3568" y="1356"/>
                  <a:pt x="3588" y="1197"/>
                  <a:pt x="3608" y="1036"/>
                </a:cubicBezTo>
                <a:cubicBezTo>
                  <a:pt x="3602" y="697"/>
                  <a:pt x="3802" y="385"/>
                  <a:pt x="3524" y="292"/>
                </a:cubicBezTo>
                <a:cubicBezTo>
                  <a:pt x="3457" y="90"/>
                  <a:pt x="3361" y="157"/>
                  <a:pt x="3140" y="148"/>
                </a:cubicBezTo>
                <a:cubicBezTo>
                  <a:pt x="3115" y="140"/>
                  <a:pt x="3093" y="120"/>
                  <a:pt x="3068" y="112"/>
                </a:cubicBezTo>
                <a:cubicBezTo>
                  <a:pt x="2991" y="86"/>
                  <a:pt x="2920" y="84"/>
                  <a:pt x="2840" y="76"/>
                </a:cubicBezTo>
                <a:cubicBezTo>
                  <a:pt x="2821" y="71"/>
                  <a:pt x="2756" y="67"/>
                  <a:pt x="2756" y="4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28800" y="41911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66880" y="3809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46483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-Reporter enzy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 intern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86200" y="38098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315200" y="502920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610480" y="2971440"/>
            <a:ext cx="0" cy="20574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543440" y="2971800"/>
            <a:ext cx="10666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594880" y="4293360"/>
            <a:ext cx="630720" cy="659520"/>
            <a:chOff x="2594880" y="4293360"/>
            <a:chExt cx="630720" cy="659520"/>
          </a:xfrm>
        </p:grpSpPr>
        <p:sp>
          <p:nvSpPr>
            <p:cNvPr id="856" name=""/>
            <p:cNvSpPr/>
            <p:nvPr/>
          </p:nvSpPr>
          <p:spPr>
            <a:xfrm>
              <a:off x="2666880" y="4363920"/>
              <a:ext cx="549360" cy="5889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9395600">
              <a:off x="2673720" y="4392720"/>
              <a:ext cx="47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5400" y="4379760"/>
              <a:ext cx="47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8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8211"/>
                </a:path>
              </a:pathLst>
            </a:custGeom>
            <a:noFill/>
            <a:ln w="114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558720" y="34920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Co- Reporter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5654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33720" y="1676520"/>
            <a:ext cx="5181480" cy="4495680"/>
          </a:xfrm>
          <a:custGeom>
            <a:avLst/>
            <a:gdLst/>
            <a:ahLst/>
            <a:rect l="l" t="t" r="r" b="b"/>
            <a:pathLst>
              <a:path w="4521" h="4113">
                <a:moveTo>
                  <a:pt x="3277" y="95"/>
                </a:moveTo>
                <a:cubicBezTo>
                  <a:pt x="2992" y="86"/>
                  <a:pt x="2546" y="0"/>
                  <a:pt x="2137" y="152"/>
                </a:cubicBezTo>
                <a:cubicBezTo>
                  <a:pt x="1728" y="304"/>
                  <a:pt x="1168" y="675"/>
                  <a:pt x="826" y="1007"/>
                </a:cubicBezTo>
                <a:cubicBezTo>
                  <a:pt x="484" y="1339"/>
                  <a:pt x="170" y="1767"/>
                  <a:pt x="85" y="2147"/>
                </a:cubicBezTo>
                <a:cubicBezTo>
                  <a:pt x="0" y="2527"/>
                  <a:pt x="142" y="3002"/>
                  <a:pt x="313" y="3287"/>
                </a:cubicBezTo>
                <a:cubicBezTo>
                  <a:pt x="484" y="3572"/>
                  <a:pt x="778" y="3733"/>
                  <a:pt x="1111" y="3857"/>
                </a:cubicBezTo>
                <a:cubicBezTo>
                  <a:pt x="1444" y="3981"/>
                  <a:pt x="1919" y="4113"/>
                  <a:pt x="2308" y="4028"/>
                </a:cubicBezTo>
                <a:cubicBezTo>
                  <a:pt x="2697" y="3943"/>
                  <a:pt x="3106" y="3619"/>
                  <a:pt x="3448" y="3344"/>
                </a:cubicBezTo>
                <a:cubicBezTo>
                  <a:pt x="3790" y="3069"/>
                  <a:pt x="4199" y="2774"/>
                  <a:pt x="4360" y="2375"/>
                </a:cubicBezTo>
                <a:cubicBezTo>
                  <a:pt x="4521" y="1976"/>
                  <a:pt x="4502" y="1311"/>
                  <a:pt x="4417" y="950"/>
                </a:cubicBezTo>
                <a:cubicBezTo>
                  <a:pt x="4332" y="589"/>
                  <a:pt x="4037" y="351"/>
                  <a:pt x="3847" y="209"/>
                </a:cubicBezTo>
                <a:cubicBezTo>
                  <a:pt x="3657" y="67"/>
                  <a:pt x="3562" y="104"/>
                  <a:pt x="3277" y="95"/>
                </a:cubicBezTo>
                <a:close/>
              </a:path>
            </a:pathLst>
          </a:custGeom>
          <a:solidFill>
            <a:srgbClr val="ffcc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47800" y="4313160"/>
            <a:ext cx="286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08440" y="4186080"/>
            <a:ext cx="587160" cy="19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900600" y="4124160"/>
            <a:ext cx="1433520" cy="31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u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19520" y="3633840"/>
            <a:ext cx="1369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ulatory 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08600" y="3811680"/>
            <a:ext cx="16300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orter G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13320" y="4984920"/>
            <a:ext cx="988920" cy="47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u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08200" y="3419640"/>
            <a:ext cx="286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68840" y="3292560"/>
            <a:ext cx="58572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81440" y="3228840"/>
            <a:ext cx="1435320" cy="317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u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00600" y="289728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trol G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17856600">
            <a:off x="6228360" y="2531160"/>
            <a:ext cx="1013040" cy="585720"/>
          </a:xfrm>
          <a:custGeom>
            <a:avLst/>
            <a:gdLst>
              <a:gd name="textAreaLeft" fmla="*/ 177120 w 1013040"/>
              <a:gd name="textAreaRight" fmla="*/ 734400 w 1013040"/>
              <a:gd name="textAreaTop" fmla="*/ 78480 h 585720"/>
              <a:gd name="textAreaBottom" fmla="*/ 50724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72040" y="2084400"/>
            <a:ext cx="1760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ZY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illa Lucife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81280" y="2795760"/>
            <a:ext cx="1370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titutive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94240" y="1909800"/>
            <a:ext cx="1222560" cy="5824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Lu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01960" y="5398920"/>
            <a:ext cx="17607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ZY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fly Lucife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3387960" y="4755240"/>
            <a:ext cx="1013040" cy="585720"/>
          </a:xfrm>
          <a:custGeom>
            <a:avLst/>
            <a:gdLst>
              <a:gd name="textAreaLeft" fmla="*/ 177120 w 1013040"/>
              <a:gd name="textAreaRight" fmla="*/ 734400 w 1013040"/>
              <a:gd name="textAreaTop" fmla="*/ 78480 h 585720"/>
              <a:gd name="textAreaBottom" fmla="*/ 50724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90400" y="1905120"/>
            <a:ext cx="321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Dual Luciferase As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0" y="1020600"/>
            <a:ext cx="1828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39960" y="3100320"/>
            <a:ext cx="149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-/in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05120" y="355428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857680" y="355608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8720" y="34920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Co- Reporter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67640" y="2057400"/>
            <a:ext cx="3059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uminescen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00" y="1828800"/>
            <a:ext cx="321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Dual Luciferase As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95280" y="2895480"/>
            <a:ext cx="4800600" cy="2765160"/>
            <a:chOff x="1295280" y="2895480"/>
            <a:chExt cx="4800600" cy="2765160"/>
          </a:xfrm>
        </p:grpSpPr>
        <p:sp>
          <p:nvSpPr>
            <p:cNvPr id="888" name=""/>
            <p:cNvSpPr/>
            <p:nvPr/>
          </p:nvSpPr>
          <p:spPr>
            <a:xfrm>
              <a:off x="3031920" y="293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2916000" y="3876120"/>
              <a:ext cx="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16000" y="5182920"/>
              <a:ext cx="31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17800" y="5295600"/>
              <a:ext cx="1143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95280" y="4325760"/>
              <a:ext cx="12762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[RLU/se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81160" y="4495680"/>
              <a:ext cx="1582920" cy="682560"/>
            </a:xfrm>
            <a:custGeom>
              <a:avLst/>
              <a:gdLst/>
              <a:ahLst/>
              <a:rect l="l" t="t" r="r" b="b"/>
              <a:pathLst>
                <a:path w="2679" h="1045">
                  <a:moveTo>
                    <a:pt x="0" y="1045"/>
                  </a:moveTo>
                  <a:cubicBezTo>
                    <a:pt x="19" y="703"/>
                    <a:pt x="38" y="361"/>
                    <a:pt x="114" y="190"/>
                  </a:cubicBezTo>
                  <a:cubicBezTo>
                    <a:pt x="190" y="19"/>
                    <a:pt x="29" y="38"/>
                    <a:pt x="456" y="19"/>
                  </a:cubicBezTo>
                  <a:cubicBezTo>
                    <a:pt x="883" y="0"/>
                    <a:pt x="2309" y="67"/>
                    <a:pt x="2679" y="7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614840" y="4267080"/>
              <a:ext cx="1481040" cy="885600"/>
            </a:xfrm>
            <a:custGeom>
              <a:avLst/>
              <a:gdLst/>
              <a:ahLst/>
              <a:rect l="l" t="t" r="r" b="b"/>
              <a:pathLst>
                <a:path w="2679" h="1045">
                  <a:moveTo>
                    <a:pt x="0" y="1045"/>
                  </a:moveTo>
                  <a:cubicBezTo>
                    <a:pt x="19" y="703"/>
                    <a:pt x="38" y="361"/>
                    <a:pt x="114" y="190"/>
                  </a:cubicBezTo>
                  <a:cubicBezTo>
                    <a:pt x="190" y="19"/>
                    <a:pt x="29" y="38"/>
                    <a:pt x="456" y="19"/>
                  </a:cubicBezTo>
                  <a:cubicBezTo>
                    <a:pt x="883" y="0"/>
                    <a:pt x="2309" y="67"/>
                    <a:pt x="2679" y="7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28960" y="4101840"/>
              <a:ext cx="102960" cy="10843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64080" y="4325760"/>
              <a:ext cx="50760" cy="866880"/>
            </a:xfrm>
            <a:custGeom>
              <a:avLst/>
              <a:gdLst/>
              <a:ahLst/>
              <a:rect l="l" t="t" r="r" b="b"/>
              <a:pathLst>
                <a:path w="114" h="1083">
                  <a:moveTo>
                    <a:pt x="0" y="0"/>
                  </a:moveTo>
                  <a:cubicBezTo>
                    <a:pt x="52" y="451"/>
                    <a:pt x="105" y="903"/>
                    <a:pt x="114" y="1083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64080" y="4109760"/>
              <a:ext cx="101520" cy="1082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14360" y="2895480"/>
              <a:ext cx="1430280" cy="609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ddition of LAR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951000" y="2895480"/>
              <a:ext cx="1787760" cy="60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ddition of Stop &amp; G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28960" y="341604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72000" y="342864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172200" y="4191120"/>
            <a:ext cx="2666880" cy="914400"/>
            <a:chOff x="6172200" y="4191120"/>
            <a:chExt cx="2666880" cy="914400"/>
          </a:xfrm>
        </p:grpSpPr>
        <p:sp>
          <p:nvSpPr>
            <p:cNvPr id="903" name=""/>
            <p:cNvSpPr/>
            <p:nvPr/>
          </p:nvSpPr>
          <p:spPr>
            <a:xfrm>
              <a:off x="7391520" y="4648320"/>
              <a:ext cx="609480" cy="457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72200" y="44197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77320" y="4648320"/>
              <a:ext cx="76176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86600" y="419112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Rati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= luc  /</a:t>
              </a:r>
              <a:r>
                <a:rPr b="1" lang="de-DE" sz="2400" spc="-1" strike="noStrike">
                  <a:solidFill>
                    <a:srgbClr val="ffffff"/>
                  </a:solidFill>
                  <a:latin typeface="Arial"/>
                </a:rPr>
                <a:t>rlu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6597720" y="2590920"/>
            <a:ext cx="21618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qu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58720" y="34920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Co- Reporter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644400" y="228600"/>
            <a:ext cx="82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Co-Reporter Gene Assays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3292560"/>
            <a:ext cx="166680" cy="968400"/>
          </a:xfrm>
          <a:prstGeom prst="can">
            <a:avLst>
              <a:gd name="adj" fmla="val 7041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95480" y="4189320"/>
            <a:ext cx="166680" cy="93600"/>
          </a:xfrm>
          <a:prstGeom prst="can">
            <a:avLst>
              <a:gd name="adj" fmla="val 25597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67440" y="2911320"/>
            <a:ext cx="166680" cy="968400"/>
          </a:xfrm>
          <a:prstGeom prst="can">
            <a:avLst>
              <a:gd name="adj" fmla="val 7041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67440" y="3684600"/>
            <a:ext cx="166680" cy="217440"/>
          </a:xfrm>
          <a:prstGeom prst="can">
            <a:avLst>
              <a:gd name="adj" fmla="val 25597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03320" y="218916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sis re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-10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76720" y="3765600"/>
            <a:ext cx="609480" cy="136440"/>
          </a:xfrm>
          <a:prstGeom prst="rightArrow">
            <a:avLst>
              <a:gd name="adj1" fmla="val 50000"/>
              <a:gd name="adj2" fmla="val 111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99080" y="45100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024600" y="2905200"/>
            <a:ext cx="166680" cy="968400"/>
          </a:xfrm>
          <a:prstGeom prst="can">
            <a:avLst>
              <a:gd name="adj" fmla="val 7041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24600" y="3678120"/>
            <a:ext cx="166680" cy="217440"/>
          </a:xfrm>
          <a:prstGeom prst="can">
            <a:avLst>
              <a:gd name="adj" fmla="val 25597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39000" y="2371680"/>
            <a:ext cx="152280" cy="397080"/>
          </a:xfrm>
          <a:prstGeom prst="downArrow">
            <a:avLst>
              <a:gd name="adj1" fmla="val 50000"/>
              <a:gd name="adj2" fmla="val 6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94160" y="17524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cife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92840" y="3438360"/>
            <a:ext cx="450720" cy="43992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4514760" y="4343400"/>
            <a:ext cx="1035000" cy="7254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rcRect l="15687" t="23368" r="21629" b="16048"/>
          <a:stretch/>
        </p:blipFill>
        <p:spPr>
          <a:xfrm>
            <a:off x="5886360" y="4352760"/>
            <a:ext cx="1035000" cy="72576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6578640" y="4200480"/>
            <a:ext cx="450720" cy="43992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43400" y="2819520"/>
            <a:ext cx="1371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810400" y="2819520"/>
            <a:ext cx="1371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895480" y="3984480"/>
            <a:ext cx="166680" cy="217800"/>
          </a:xfrm>
          <a:prstGeom prst="can">
            <a:avLst>
              <a:gd name="adj" fmla="val 25597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95680" y="3772080"/>
            <a:ext cx="690840" cy="266400"/>
          </a:xfrm>
          <a:custGeom>
            <a:avLst/>
            <a:gdLst>
              <a:gd name="textAreaLeft" fmla="*/ 120960 w 690840"/>
              <a:gd name="textAreaRight" fmla="*/ 501120 w 690840"/>
              <a:gd name="textAreaTop" fmla="*/ 35640 h 266400"/>
              <a:gd name="textAreaBottom" fmla="*/ 230760 h 26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93600" y="23115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2480" y="1676520"/>
            <a:ext cx="2530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971800" y="2911320"/>
            <a:ext cx="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03320" y="2905200"/>
            <a:ext cx="1003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iqu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-20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238880" y="1752480"/>
            <a:ext cx="1604520" cy="3429000"/>
            <a:chOff x="7238880" y="1752480"/>
            <a:chExt cx="1604520" cy="3429000"/>
          </a:xfrm>
        </p:grpSpPr>
        <p:sp>
          <p:nvSpPr>
            <p:cNvPr id="934" name=""/>
            <p:cNvSpPr/>
            <p:nvPr/>
          </p:nvSpPr>
          <p:spPr>
            <a:xfrm>
              <a:off x="7453440" y="2905200"/>
              <a:ext cx="166680" cy="968400"/>
            </a:xfrm>
            <a:prstGeom prst="can">
              <a:avLst>
                <a:gd name="adj" fmla="val 7041"/>
              </a:avLst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53440" y="3678120"/>
              <a:ext cx="166680" cy="217440"/>
            </a:xfrm>
            <a:prstGeom prst="can">
              <a:avLst>
                <a:gd name="adj" fmla="val 25597"/>
              </a:avLst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67480" y="2371680"/>
              <a:ext cx="152640" cy="397080"/>
            </a:xfrm>
            <a:prstGeom prst="downArrow">
              <a:avLst>
                <a:gd name="adj1" fmla="val 50000"/>
                <a:gd name="adj2" fmla="val 6503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21920" y="1752480"/>
              <a:ext cx="122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op&amp; G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0µ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21680" y="3438360"/>
              <a:ext cx="450720" cy="439920"/>
            </a:xfrm>
            <a:prstGeom prst="irregularSeal1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9" name="" descr=""/>
            <p:cNvPicPr/>
            <p:nvPr/>
          </p:nvPicPr>
          <p:blipFill>
            <a:blip r:embed="rId3"/>
            <a:srcRect l="15687" t="23368" r="21629" b="16048"/>
            <a:stretch/>
          </p:blipFill>
          <p:spPr>
            <a:xfrm>
              <a:off x="7315200" y="4352760"/>
              <a:ext cx="10350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8007480" y="4200480"/>
              <a:ext cx="450720" cy="439920"/>
            </a:xfrm>
            <a:prstGeom prst="irregularSeal1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38880" y="2819520"/>
              <a:ext cx="1371600" cy="23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2381400" y="125892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mple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52600" y="125892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periment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95640" y="54244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42640" y="99072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85a0"/>
                </a:solidFill>
                <a:latin typeface="Arial"/>
              </a:rPr>
              <a:t>Standard DLR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55520" y="121932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120960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29440" y="542448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383400" y="20574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 stimu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oa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lecu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ug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m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47600" y="1828800"/>
            <a:ext cx="18334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469800" y="3753000"/>
            <a:ext cx="1035000" cy="72540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rcRect l="15687" t="23368" r="21629" b="16048"/>
          <a:stretch/>
        </p:blipFill>
        <p:spPr>
          <a:xfrm>
            <a:off x="2160720" y="3708360"/>
            <a:ext cx="1035000" cy="7254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2185920" y="3238560"/>
            <a:ext cx="152640" cy="396720"/>
          </a:xfrm>
          <a:prstGeom prst="downArrow">
            <a:avLst>
              <a:gd name="adj1" fmla="val 50000"/>
              <a:gd name="adj2" fmla="val 64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341800" y="300996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sis + Luciferase re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 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94160" y="3814920"/>
            <a:ext cx="609480" cy="136440"/>
          </a:xfrm>
          <a:prstGeom prst="rightArrow">
            <a:avLst>
              <a:gd name="adj1" fmla="val 50000"/>
              <a:gd name="adj2" fmla="val 111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56200" y="3951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95288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for HTS 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057400" y="3009960"/>
            <a:ext cx="6477120" cy="158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72000" y="3619440"/>
            <a:ext cx="450720" cy="43992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4400" y="21600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Reporter Gene Assay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871240" y="990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85a0"/>
                </a:solidFill>
                <a:latin typeface="Arial"/>
              </a:rPr>
              <a:t>Homogenous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73520" y="2401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33520" y="130968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periment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3"/>
          <a:srcRect l="15687" t="23368" r="21629" b="16048"/>
          <a:stretch/>
        </p:blipFill>
        <p:spPr>
          <a:xfrm>
            <a:off x="5367240" y="3746520"/>
            <a:ext cx="1035000" cy="7254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5392800" y="3276720"/>
            <a:ext cx="152280" cy="396720"/>
          </a:xfrm>
          <a:prstGeom prst="downArrow">
            <a:avLst>
              <a:gd name="adj1" fmla="val 50000"/>
              <a:gd name="adj2" fmla="val 651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00680" y="3852720"/>
            <a:ext cx="609840" cy="136800"/>
          </a:xfrm>
          <a:prstGeom prst="rightArrow">
            <a:avLst>
              <a:gd name="adj1" fmla="val 50000"/>
              <a:gd name="adj2" fmla="val 11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43800" y="3657600"/>
            <a:ext cx="450720" cy="43956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78640" y="30924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p&amp; 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 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7600" y="127008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46680" y="2352600"/>
            <a:ext cx="349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" y="1828800"/>
            <a:ext cx="321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Dual Luciferase As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65760" y="18288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62520" y="2438280"/>
            <a:ext cx="5181480" cy="41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low type reactions from on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nilla signal shows slow dec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reagent injectors recommen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vailable as homogenous assay: Dual-Glo Assay no injector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atio calcu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8720" y="34920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Co- Reporter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470400" y="1677960"/>
            <a:ext cx="5445000" cy="437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65440" y="197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65640" y="115884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Selection of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038480" y="2367000"/>
            <a:ext cx="457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Bio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mbr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ON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m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che Applied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ffer assays for  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rcRect l="15687" t="23368" r="21629" b="16048"/>
          <a:stretch/>
        </p:blipFill>
        <p:spPr>
          <a:xfrm>
            <a:off x="6858000" y="5065560"/>
            <a:ext cx="1035000" cy="725760"/>
          </a:xfrm>
          <a:prstGeom prst="rect">
            <a:avLst/>
          </a:prstGeom>
          <a:ln w="0">
            <a:noFill/>
          </a:ln>
        </p:spPr>
      </p:pic>
      <p:pic>
        <p:nvPicPr>
          <p:cNvPr id="981" name="tube" descr=""/>
          <p:cNvPicPr/>
          <p:nvPr/>
        </p:nvPicPr>
        <p:blipFill>
          <a:blip r:embed="rId2"/>
          <a:srcRect l="8340" t="11104" r="8340" b="0"/>
          <a:stretch/>
        </p:blipFill>
        <p:spPr>
          <a:xfrm>
            <a:off x="8229600" y="5029200"/>
            <a:ext cx="380880" cy="7650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609480" y="3348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188760" y="129528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971800" y="20574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el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general molecular ge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otany, plant ge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nvironment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ndocrinology, membra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ancer re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vi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icr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480" y="3348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579720" y="12952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911320" y="2133720"/>
            <a:ext cx="588996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stablished method in molecular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st popular reporter gene a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efly Luciferase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ual Luciferase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riety of commercial a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low  type signal (m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ew homogenous assays with steady stable glow signal (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me assays require inj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po-Aequorin reporter is flas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348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porter Gene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216240" y="2336760"/>
            <a:ext cx="55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er Gene Assays and ATP based assays cover 80-90% of the customer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ety of commercial a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requirements for instrumentation with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4600" y="61920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search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808320" y="12952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654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75438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P based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er Gene Ass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34800"/>
            <a:ext cx="73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Focus on Main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145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147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27273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34600" y="61920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Research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49640" y="3003480"/>
            <a:ext cx="33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785a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999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1001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8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261400" y="220968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36680" y="3537000"/>
            <a:ext cx="184320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irefly Luciferase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124080"/>
            <a:ext cx="650880" cy="579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419720"/>
            <a:ext cx="76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P + Luciferin --&gt;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MP + Oxyluciferin + Light (565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170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172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0226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1920" y="13096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84200" y="3581280"/>
            <a:ext cx="1828800" cy="1067040"/>
            <a:chOff x="1384200" y="3581280"/>
            <a:chExt cx="1828800" cy="1067040"/>
          </a:xfrm>
        </p:grpSpPr>
        <p:sp>
          <p:nvSpPr>
            <p:cNvPr id="192" name=""/>
            <p:cNvSpPr/>
            <p:nvPr/>
          </p:nvSpPr>
          <p:spPr>
            <a:xfrm>
              <a:off x="1384200" y="3581280"/>
              <a:ext cx="1828800" cy="10670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89120" y="4038480"/>
              <a:ext cx="15228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41400" y="4191120"/>
              <a:ext cx="15264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94040" y="4343400"/>
              <a:ext cx="15228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27200" y="4267080"/>
              <a:ext cx="15264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74920" y="3962520"/>
              <a:ext cx="15228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51240" y="3809880"/>
              <a:ext cx="15228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46320" y="3886200"/>
              <a:ext cx="15228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22640" y="4114800"/>
              <a:ext cx="15228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72000" y="25146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nt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able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1240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2785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105520"/>
            <a:ext cx="1066680" cy="990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962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44197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2785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81680" y="5562720"/>
            <a:ext cx="2075760" cy="1174680"/>
            <a:chOff x="6781680" y="5562720"/>
            <a:chExt cx="2075760" cy="1174680"/>
          </a:xfrm>
        </p:grpSpPr>
        <p:sp>
          <p:nvSpPr>
            <p:cNvPr id="208" name=""/>
            <p:cNvSpPr/>
            <p:nvPr/>
          </p:nvSpPr>
          <p:spPr>
            <a:xfrm>
              <a:off x="7894800" y="5573880"/>
              <a:ext cx="865080" cy="83016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8007480" y="5611680"/>
              <a:ext cx="639720" cy="716040"/>
              <a:chOff x="8007480" y="5611680"/>
              <a:chExt cx="639720" cy="716040"/>
            </a:xfrm>
          </p:grpSpPr>
          <p:sp>
            <p:nvSpPr>
              <p:cNvPr id="210" name=""/>
              <p:cNvSpPr/>
              <p:nvPr/>
            </p:nvSpPr>
            <p:spPr>
              <a:xfrm>
                <a:off x="8007480" y="5718960"/>
                <a:ext cx="588960" cy="608760"/>
              </a:xfrm>
              <a:prstGeom prst="ellipse">
                <a:avLst/>
              </a:prstGeom>
              <a:noFill/>
              <a:ln w="57240">
                <a:solidFill>
                  <a:srgbClr val="bbe0e3"/>
                </a:solidFill>
                <a:miter/>
              </a:ln>
              <a:effectLst>
                <a:outerShdw dist="153753" dir="2700000" blurRad="0" rotWithShape="0">
                  <a:srgbClr val="6f858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250120" y="5611680"/>
                <a:ext cx="397080" cy="501120"/>
              </a:xfrm>
              <a:custGeom>
                <a:avLst/>
                <a:gdLst/>
                <a:ahLst/>
                <a:rect l="l" t="t" r="r" b="b"/>
                <a:pathLst>
                  <a:path w="1388" h="1565">
                    <a:moveTo>
                      <a:pt x="529" y="229"/>
                    </a:moveTo>
                    <a:lnTo>
                      <a:pt x="548" y="232"/>
                    </a:lnTo>
                    <a:lnTo>
                      <a:pt x="573" y="236"/>
                    </a:lnTo>
                    <a:lnTo>
                      <a:pt x="599" y="243"/>
                    </a:lnTo>
                    <a:lnTo>
                      <a:pt x="617" y="247"/>
                    </a:lnTo>
                    <a:lnTo>
                      <a:pt x="638" y="252"/>
                    </a:lnTo>
                    <a:lnTo>
                      <a:pt x="658" y="259"/>
                    </a:lnTo>
                    <a:lnTo>
                      <a:pt x="679" y="265"/>
                    </a:lnTo>
                    <a:lnTo>
                      <a:pt x="698" y="270"/>
                    </a:lnTo>
                    <a:lnTo>
                      <a:pt x="720" y="279"/>
                    </a:lnTo>
                    <a:lnTo>
                      <a:pt x="745" y="289"/>
                    </a:lnTo>
                    <a:lnTo>
                      <a:pt x="768" y="298"/>
                    </a:lnTo>
                    <a:lnTo>
                      <a:pt x="789" y="307"/>
                    </a:lnTo>
                    <a:lnTo>
                      <a:pt x="813" y="318"/>
                    </a:lnTo>
                    <a:lnTo>
                      <a:pt x="836" y="329"/>
                    </a:lnTo>
                    <a:lnTo>
                      <a:pt x="857" y="340"/>
                    </a:lnTo>
                    <a:lnTo>
                      <a:pt x="877" y="353"/>
                    </a:lnTo>
                    <a:lnTo>
                      <a:pt x="895" y="363"/>
                    </a:lnTo>
                    <a:lnTo>
                      <a:pt x="913" y="376"/>
                    </a:lnTo>
                    <a:lnTo>
                      <a:pt x="933" y="388"/>
                    </a:lnTo>
                    <a:lnTo>
                      <a:pt x="956" y="402"/>
                    </a:lnTo>
                    <a:lnTo>
                      <a:pt x="976" y="417"/>
                    </a:lnTo>
                    <a:lnTo>
                      <a:pt x="995" y="432"/>
                    </a:lnTo>
                    <a:lnTo>
                      <a:pt x="1013" y="446"/>
                    </a:lnTo>
                    <a:lnTo>
                      <a:pt x="1041" y="470"/>
                    </a:lnTo>
                    <a:lnTo>
                      <a:pt x="1071" y="497"/>
                    </a:lnTo>
                    <a:lnTo>
                      <a:pt x="1094" y="518"/>
                    </a:lnTo>
                    <a:lnTo>
                      <a:pt x="1121" y="549"/>
                    </a:lnTo>
                    <a:lnTo>
                      <a:pt x="1140" y="571"/>
                    </a:lnTo>
                    <a:lnTo>
                      <a:pt x="1161" y="597"/>
                    </a:lnTo>
                    <a:lnTo>
                      <a:pt x="1185" y="625"/>
                    </a:lnTo>
                    <a:lnTo>
                      <a:pt x="1204" y="653"/>
                    </a:lnTo>
                    <a:lnTo>
                      <a:pt x="1223" y="683"/>
                    </a:lnTo>
                    <a:lnTo>
                      <a:pt x="1243" y="713"/>
                    </a:lnTo>
                    <a:lnTo>
                      <a:pt x="1260" y="744"/>
                    </a:lnTo>
                    <a:lnTo>
                      <a:pt x="1276" y="772"/>
                    </a:lnTo>
                    <a:lnTo>
                      <a:pt x="1292" y="806"/>
                    </a:lnTo>
                    <a:lnTo>
                      <a:pt x="1307" y="838"/>
                    </a:lnTo>
                    <a:lnTo>
                      <a:pt x="1320" y="872"/>
                    </a:lnTo>
                    <a:lnTo>
                      <a:pt x="1332" y="909"/>
                    </a:lnTo>
                    <a:lnTo>
                      <a:pt x="1348" y="955"/>
                    </a:lnTo>
                    <a:lnTo>
                      <a:pt x="1359" y="997"/>
                    </a:lnTo>
                    <a:lnTo>
                      <a:pt x="1369" y="1040"/>
                    </a:lnTo>
                    <a:lnTo>
                      <a:pt x="1375" y="1082"/>
                    </a:lnTo>
                    <a:lnTo>
                      <a:pt x="1382" y="1132"/>
                    </a:lnTo>
                    <a:lnTo>
                      <a:pt x="1387" y="1193"/>
                    </a:lnTo>
                    <a:lnTo>
                      <a:pt x="1388" y="1241"/>
                    </a:lnTo>
                    <a:lnTo>
                      <a:pt x="1387" y="1288"/>
                    </a:lnTo>
                    <a:lnTo>
                      <a:pt x="1383" y="1334"/>
                    </a:lnTo>
                    <a:lnTo>
                      <a:pt x="1378" y="1376"/>
                    </a:lnTo>
                    <a:lnTo>
                      <a:pt x="1373" y="1420"/>
                    </a:lnTo>
                    <a:lnTo>
                      <a:pt x="1363" y="1466"/>
                    </a:lnTo>
                    <a:lnTo>
                      <a:pt x="1350" y="1514"/>
                    </a:lnTo>
                    <a:lnTo>
                      <a:pt x="1335" y="1565"/>
                    </a:lnTo>
                    <a:lnTo>
                      <a:pt x="1244" y="1282"/>
                    </a:lnTo>
                    <a:lnTo>
                      <a:pt x="897" y="1341"/>
                    </a:lnTo>
                    <a:lnTo>
                      <a:pt x="905" y="1292"/>
                    </a:lnTo>
                    <a:lnTo>
                      <a:pt x="908" y="1260"/>
                    </a:lnTo>
                    <a:lnTo>
                      <a:pt x="908" y="1226"/>
                    </a:lnTo>
                    <a:lnTo>
                      <a:pt x="906" y="1187"/>
                    </a:lnTo>
                    <a:lnTo>
                      <a:pt x="901" y="1150"/>
                    </a:lnTo>
                    <a:lnTo>
                      <a:pt x="893" y="1108"/>
                    </a:lnTo>
                    <a:lnTo>
                      <a:pt x="884" y="1074"/>
                    </a:lnTo>
                    <a:lnTo>
                      <a:pt x="869" y="1036"/>
                    </a:lnTo>
                    <a:lnTo>
                      <a:pt x="855" y="1003"/>
                    </a:lnTo>
                    <a:lnTo>
                      <a:pt x="838" y="972"/>
                    </a:lnTo>
                    <a:lnTo>
                      <a:pt x="824" y="947"/>
                    </a:lnTo>
                    <a:lnTo>
                      <a:pt x="809" y="927"/>
                    </a:lnTo>
                    <a:lnTo>
                      <a:pt x="794" y="907"/>
                    </a:lnTo>
                    <a:lnTo>
                      <a:pt x="777" y="887"/>
                    </a:lnTo>
                    <a:lnTo>
                      <a:pt x="758" y="866"/>
                    </a:lnTo>
                    <a:lnTo>
                      <a:pt x="742" y="851"/>
                    </a:lnTo>
                    <a:lnTo>
                      <a:pt x="724" y="833"/>
                    </a:lnTo>
                    <a:lnTo>
                      <a:pt x="706" y="817"/>
                    </a:lnTo>
                    <a:lnTo>
                      <a:pt x="685" y="802"/>
                    </a:lnTo>
                    <a:lnTo>
                      <a:pt x="660" y="786"/>
                    </a:lnTo>
                    <a:lnTo>
                      <a:pt x="639" y="771"/>
                    </a:lnTo>
                    <a:lnTo>
                      <a:pt x="621" y="761"/>
                    </a:lnTo>
                    <a:lnTo>
                      <a:pt x="594" y="746"/>
                    </a:lnTo>
                    <a:lnTo>
                      <a:pt x="571" y="737"/>
                    </a:lnTo>
                    <a:lnTo>
                      <a:pt x="551" y="730"/>
                    </a:lnTo>
                    <a:lnTo>
                      <a:pt x="530" y="722"/>
                    </a:lnTo>
                    <a:lnTo>
                      <a:pt x="498" y="715"/>
                    </a:lnTo>
                    <a:lnTo>
                      <a:pt x="469" y="710"/>
                    </a:lnTo>
                    <a:lnTo>
                      <a:pt x="438" y="706"/>
                    </a:lnTo>
                    <a:lnTo>
                      <a:pt x="408" y="704"/>
                    </a:lnTo>
                    <a:lnTo>
                      <a:pt x="391" y="703"/>
                    </a:lnTo>
                    <a:lnTo>
                      <a:pt x="391" y="958"/>
                    </a:lnTo>
                    <a:lnTo>
                      <a:pt x="0" y="486"/>
                    </a:lnTo>
                    <a:lnTo>
                      <a:pt x="390" y="0"/>
                    </a:lnTo>
                    <a:lnTo>
                      <a:pt x="390" y="219"/>
                    </a:lnTo>
                    <a:lnTo>
                      <a:pt x="411" y="220"/>
                    </a:lnTo>
                    <a:lnTo>
                      <a:pt x="441" y="221"/>
                    </a:lnTo>
                    <a:lnTo>
                      <a:pt x="473" y="223"/>
                    </a:lnTo>
                    <a:lnTo>
                      <a:pt x="504" y="226"/>
                    </a:lnTo>
                    <a:lnTo>
                      <a:pt x="529" y="229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  <a:effectLst>
                <a:outerShdw dist="153753" dir="2700000" blurRad="0" rotWithShape="0">
                  <a:srgbClr val="984a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781680" y="5562720"/>
              <a:ext cx="911520" cy="853920"/>
            </a:xfrm>
            <a:prstGeom prst="rect">
              <a:avLst/>
            </a:prstGeom>
            <a:solidFill>
              <a:srgbClr val="e1e1ff"/>
            </a:solidFill>
            <a:ln w="57240">
              <a:solidFill>
                <a:srgbClr val="278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6983280" y="5648400"/>
              <a:ext cx="507960" cy="710640"/>
              <a:chOff x="6983280" y="5648400"/>
              <a:chExt cx="507960" cy="7106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983280" y="5790600"/>
                <a:ext cx="507960" cy="568440"/>
                <a:chOff x="6983280" y="5790600"/>
                <a:chExt cx="507960" cy="5684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983280" y="5790600"/>
                  <a:ext cx="507960" cy="535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cc00"/>
                </a:solidFill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983280" y="6225480"/>
                  <a:ext cx="507960" cy="133560"/>
                </a:xfrm>
                <a:prstGeom prst="ellipse">
                  <a:avLst/>
                </a:prstGeom>
                <a:solidFill>
                  <a:srgbClr val="99cc00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 txBox="1"/>
              <p:nvPr/>
            </p:nvSpPr>
            <p:spPr>
              <a:xfrm>
                <a:off x="7084800" y="616032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7322040" y="613188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404200">
                <a:off x="7160400" y="6032880"/>
                <a:ext cx="84600" cy="168480"/>
              </a:xfrm>
              <a:prstGeom prst="pentagon">
                <a:avLst/>
              </a:prstGeom>
              <a:solidFill>
                <a:srgbClr val="ff505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1533800">
                <a:off x="7186320" y="5903640"/>
                <a:ext cx="101520" cy="18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Y</a:t>
                </a:r>
                <a:endPara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7050960" y="5648400"/>
                <a:ext cx="372240" cy="312840"/>
                <a:chOff x="7050960" y="5648400"/>
                <a:chExt cx="372240" cy="3128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152480" y="5733720"/>
                  <a:ext cx="169200" cy="14220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185960" y="5762160"/>
                  <a:ext cx="101520" cy="85320"/>
                </a:xfrm>
                <a:prstGeom prst="ellips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18280" y="5705280"/>
                  <a:ext cx="236880" cy="19908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50960" y="5648400"/>
                  <a:ext cx="372240" cy="312840"/>
                </a:xfrm>
                <a:prstGeom prst="ellipse">
                  <a:avLst/>
                </a:prstGeom>
                <a:noFill/>
                <a:ln w="57240">
                  <a:solidFill>
                    <a:srgbClr val="bbe0e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7239600" y="636912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0720" y="2971800"/>
            <a:ext cx="4346280" cy="2460600"/>
          </a:xfrm>
          <a:prstGeom prst="ellipse">
            <a:avLst/>
          </a:prstGeom>
          <a:solidFill>
            <a:srgbClr val="ff9999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920" y="1219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08280" y="2971800"/>
            <a:ext cx="291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llula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[ATP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3657240" y="3657600"/>
            <a:ext cx="765000" cy="380880"/>
          </a:xfrm>
          <a:prstGeom prst="downArrow">
            <a:avLst>
              <a:gd name="adj1" fmla="val 59759"/>
              <a:gd name="adj2" fmla="val 64583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08280" y="4343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191120"/>
            <a:ext cx="15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P/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813120" y="4495680"/>
            <a:ext cx="1143000" cy="381240"/>
            <a:chOff x="3813120" y="4495680"/>
            <a:chExt cx="1143000" cy="381240"/>
          </a:xfrm>
        </p:grpSpPr>
        <p:sp>
          <p:nvSpPr>
            <p:cNvPr id="235" name=""/>
            <p:cNvSpPr/>
            <p:nvPr/>
          </p:nvSpPr>
          <p:spPr>
            <a:xfrm>
              <a:off x="3813120" y="4495680"/>
              <a:ext cx="114300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02840" y="4556520"/>
              <a:ext cx="804240" cy="293400"/>
            </a:xfrm>
            <a:custGeom>
              <a:avLst/>
              <a:gdLst/>
              <a:ahLst/>
              <a:rect l="l" t="t" r="r" b="b"/>
              <a:pathLst>
                <a:path w="699" h="222">
                  <a:moveTo>
                    <a:pt x="147" y="62"/>
                  </a:moveTo>
                  <a:cubicBezTo>
                    <a:pt x="151" y="46"/>
                    <a:pt x="143" y="14"/>
                    <a:pt x="159" y="14"/>
                  </a:cubicBezTo>
                  <a:cubicBezTo>
                    <a:pt x="188" y="14"/>
                    <a:pt x="231" y="62"/>
                    <a:pt x="231" y="62"/>
                  </a:cubicBezTo>
                  <a:cubicBezTo>
                    <a:pt x="239" y="50"/>
                    <a:pt x="242" y="31"/>
                    <a:pt x="255" y="26"/>
                  </a:cubicBezTo>
                  <a:cubicBezTo>
                    <a:pt x="271" y="20"/>
                    <a:pt x="319" y="57"/>
                    <a:pt x="327" y="62"/>
                  </a:cubicBezTo>
                  <a:cubicBezTo>
                    <a:pt x="336" y="48"/>
                    <a:pt x="356" y="2"/>
                    <a:pt x="387" y="14"/>
                  </a:cubicBezTo>
                  <a:cubicBezTo>
                    <a:pt x="400" y="19"/>
                    <a:pt x="400" y="41"/>
                    <a:pt x="411" y="50"/>
                  </a:cubicBezTo>
                  <a:cubicBezTo>
                    <a:pt x="421" y="58"/>
                    <a:pt x="435" y="58"/>
                    <a:pt x="447" y="62"/>
                  </a:cubicBezTo>
                  <a:cubicBezTo>
                    <a:pt x="455" y="50"/>
                    <a:pt x="458" y="31"/>
                    <a:pt x="471" y="26"/>
                  </a:cubicBezTo>
                  <a:cubicBezTo>
                    <a:pt x="481" y="22"/>
                    <a:pt x="561" y="68"/>
                    <a:pt x="579" y="74"/>
                  </a:cubicBezTo>
                  <a:cubicBezTo>
                    <a:pt x="592" y="36"/>
                    <a:pt x="588" y="8"/>
                    <a:pt x="651" y="50"/>
                  </a:cubicBezTo>
                  <a:cubicBezTo>
                    <a:pt x="662" y="57"/>
                    <a:pt x="654" y="77"/>
                    <a:pt x="663" y="86"/>
                  </a:cubicBezTo>
                  <a:cubicBezTo>
                    <a:pt x="672" y="95"/>
                    <a:pt x="687" y="94"/>
                    <a:pt x="699" y="98"/>
                  </a:cubicBezTo>
                  <a:cubicBezTo>
                    <a:pt x="696" y="108"/>
                    <a:pt x="693" y="179"/>
                    <a:pt x="651" y="158"/>
                  </a:cubicBezTo>
                  <a:cubicBezTo>
                    <a:pt x="640" y="152"/>
                    <a:pt x="643" y="134"/>
                    <a:pt x="639" y="122"/>
                  </a:cubicBezTo>
                  <a:cubicBezTo>
                    <a:pt x="620" y="178"/>
                    <a:pt x="613" y="189"/>
                    <a:pt x="555" y="170"/>
                  </a:cubicBezTo>
                  <a:cubicBezTo>
                    <a:pt x="505" y="187"/>
                    <a:pt x="490" y="175"/>
                    <a:pt x="447" y="146"/>
                  </a:cubicBezTo>
                  <a:cubicBezTo>
                    <a:pt x="442" y="160"/>
                    <a:pt x="436" y="212"/>
                    <a:pt x="399" y="194"/>
                  </a:cubicBezTo>
                  <a:cubicBezTo>
                    <a:pt x="388" y="188"/>
                    <a:pt x="391" y="170"/>
                    <a:pt x="387" y="158"/>
                  </a:cubicBezTo>
                  <a:cubicBezTo>
                    <a:pt x="303" y="214"/>
                    <a:pt x="339" y="222"/>
                    <a:pt x="279" y="182"/>
                  </a:cubicBezTo>
                  <a:cubicBezTo>
                    <a:pt x="275" y="170"/>
                    <a:pt x="279" y="149"/>
                    <a:pt x="267" y="146"/>
                  </a:cubicBezTo>
                  <a:cubicBezTo>
                    <a:pt x="253" y="143"/>
                    <a:pt x="244" y="164"/>
                    <a:pt x="231" y="170"/>
                  </a:cubicBezTo>
                  <a:cubicBezTo>
                    <a:pt x="220" y="176"/>
                    <a:pt x="207" y="178"/>
                    <a:pt x="195" y="182"/>
                  </a:cubicBezTo>
                  <a:cubicBezTo>
                    <a:pt x="120" y="132"/>
                    <a:pt x="198" y="170"/>
                    <a:pt x="123" y="170"/>
                  </a:cubicBezTo>
                  <a:cubicBezTo>
                    <a:pt x="98" y="170"/>
                    <a:pt x="69" y="146"/>
                    <a:pt x="51" y="134"/>
                  </a:cubicBezTo>
                  <a:cubicBezTo>
                    <a:pt x="38" y="114"/>
                    <a:pt x="0" y="82"/>
                    <a:pt x="51" y="62"/>
                  </a:cubicBezTo>
                  <a:cubicBezTo>
                    <a:pt x="63" y="57"/>
                    <a:pt x="75" y="70"/>
                    <a:pt x="87" y="74"/>
                  </a:cubicBezTo>
                  <a:cubicBezTo>
                    <a:pt x="112" y="0"/>
                    <a:pt x="87" y="62"/>
                    <a:pt x="147" y="62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905120" y="3733920"/>
            <a:ext cx="765000" cy="380880"/>
          </a:xfrm>
          <a:prstGeom prst="downArrow">
            <a:avLst>
              <a:gd name="adj1" fmla="val 59759"/>
              <a:gd name="adj2" fmla="val 64583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70400" y="1766880"/>
            <a:ext cx="20080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u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01760" y="1677960"/>
            <a:ext cx="2016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enobio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&amp; Cytost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71760"/>
            <a:ext cx="20224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400" y="5432400"/>
            <a:ext cx="1908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ell 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5432400"/>
            <a:ext cx="2022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op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2320" y="3749760"/>
            <a:ext cx="26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ntif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el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601600">
            <a:off x="4652640" y="5078520"/>
            <a:ext cx="914400" cy="2523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7469400">
            <a:off x="1303560" y="4902480"/>
            <a:ext cx="914400" cy="252360"/>
          </a:xfrm>
          <a:custGeom>
            <a:avLst/>
            <a:gdLst>
              <a:gd name="textAreaLeft" fmla="*/ 142920 w 914400"/>
              <a:gd name="textAreaRight" fmla="*/ 800280 w 91440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8317800">
            <a:off x="4038120" y="2566800"/>
            <a:ext cx="533520" cy="252360"/>
          </a:xfrm>
          <a:custGeom>
            <a:avLst/>
            <a:gdLst>
              <a:gd name="textAreaLeft" fmla="*/ 83160 w 533520"/>
              <a:gd name="textAreaRight" fmla="*/ 466920 w 53352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3655800">
            <a:off x="2221200" y="2426400"/>
            <a:ext cx="533520" cy="252360"/>
          </a:xfrm>
          <a:custGeom>
            <a:avLst/>
            <a:gdLst>
              <a:gd name="textAreaLeft" fmla="*/ 83160 w 533520"/>
              <a:gd name="textAreaRight" fmla="*/ 466920 w 53352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242800">
            <a:off x="768240" y="3060360"/>
            <a:ext cx="533520" cy="252360"/>
          </a:xfrm>
          <a:custGeom>
            <a:avLst/>
            <a:gdLst>
              <a:gd name="textAreaLeft" fmla="*/ 83160 w 533520"/>
              <a:gd name="textAreaRight" fmla="*/ 466920 w 53352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590920" y="2685960"/>
            <a:ext cx="6324480" cy="336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1708200"/>
            <a:ext cx="6324480" cy="76212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5440" y="197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8920" y="10666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1676520"/>
            <a:ext cx="7010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ygiene and sterility monitoring (free ATP and microbial ATP), rapid micr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ellbased As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roliferation (antibiotic susceptibility testing, tumor chemo-sensitivity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toxicity testing (pharmaceutical drug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ptosis assay (ATP and A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zymes and metabolites in ATP linked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96396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3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676440" y="2678040"/>
            <a:ext cx="3590280" cy="2732040"/>
            <a:chOff x="676440" y="2678040"/>
            <a:chExt cx="3590280" cy="2732040"/>
          </a:xfrm>
        </p:grpSpPr>
        <p:sp>
          <p:nvSpPr>
            <p:cNvPr id="258" name=""/>
            <p:cNvSpPr/>
            <p:nvPr/>
          </p:nvSpPr>
          <p:spPr>
            <a:xfrm>
              <a:off x="676440" y="2678040"/>
              <a:ext cx="14475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RLU/sec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407960" y="327348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7960" y="4713480"/>
              <a:ext cx="252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43320" y="4888080"/>
              <a:ext cx="9234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50800" y="3832200"/>
              <a:ext cx="2284200" cy="881280"/>
            </a:xfrm>
            <a:custGeom>
              <a:avLst/>
              <a:gdLst/>
              <a:ahLst/>
              <a:rect l="l" t="t" r="r" b="b"/>
              <a:pathLst>
                <a:path w="2679" h="1045">
                  <a:moveTo>
                    <a:pt x="0" y="1045"/>
                  </a:moveTo>
                  <a:cubicBezTo>
                    <a:pt x="19" y="703"/>
                    <a:pt x="38" y="361"/>
                    <a:pt x="114" y="190"/>
                  </a:cubicBezTo>
                  <a:cubicBezTo>
                    <a:pt x="190" y="19"/>
                    <a:pt x="29" y="38"/>
                    <a:pt x="456" y="19"/>
                  </a:cubicBezTo>
                  <a:cubicBezTo>
                    <a:pt x="883" y="0"/>
                    <a:pt x="2309" y="67"/>
                    <a:pt x="2679" y="76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51160" y="3967200"/>
              <a:ext cx="990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808080"/>
                  </a:solidFill>
                  <a:latin typeface="Arial"/>
                </a:rPr>
                <a:t>Glow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0800" y="3211560"/>
              <a:ext cx="1609560" cy="1441440"/>
            </a:xfrm>
            <a:custGeom>
              <a:avLst/>
              <a:gdLst/>
              <a:ahLst/>
              <a:rect l="l" t="t" r="r" b="b"/>
              <a:pathLst>
                <a:path w="2394" h="1947">
                  <a:moveTo>
                    <a:pt x="0" y="1938"/>
                  </a:moveTo>
                  <a:cubicBezTo>
                    <a:pt x="38" y="1553"/>
                    <a:pt x="76" y="1169"/>
                    <a:pt x="114" y="855"/>
                  </a:cubicBezTo>
                  <a:cubicBezTo>
                    <a:pt x="152" y="541"/>
                    <a:pt x="124" y="0"/>
                    <a:pt x="228" y="57"/>
                  </a:cubicBezTo>
                  <a:cubicBezTo>
                    <a:pt x="332" y="114"/>
                    <a:pt x="503" y="902"/>
                    <a:pt x="741" y="1197"/>
                  </a:cubicBezTo>
                  <a:cubicBezTo>
                    <a:pt x="979" y="1492"/>
                    <a:pt x="1378" y="1701"/>
                    <a:pt x="1653" y="1824"/>
                  </a:cubicBezTo>
                  <a:cubicBezTo>
                    <a:pt x="1928" y="1947"/>
                    <a:pt x="2271" y="1919"/>
                    <a:pt x="2394" y="193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0800" y="4979880"/>
              <a:ext cx="13586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 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0800" y="4884840"/>
              <a:ext cx="70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41400" y="2906640"/>
              <a:ext cx="1218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2785a0"/>
                  </a:solidFill>
                  <a:latin typeface="Arial"/>
                </a:rPr>
                <a:t>Flash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800600" y="2514600"/>
            <a:ext cx="46864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Luminescent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ash type re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e intensive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 sensitive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ow type re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s intensive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s sensitive a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5165640" y="3705120"/>
            <a:ext cx="282600" cy="644400"/>
          </a:xfrm>
          <a:prstGeom prst="triangle">
            <a:avLst>
              <a:gd name="adj" fmla="val 50000"/>
            </a:avLst>
          </a:prstGeom>
          <a:solidFill>
            <a:srgbClr val="278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5165640" y="4924440"/>
            <a:ext cx="282600" cy="644400"/>
          </a:xfrm>
          <a:prstGeom prst="triangle">
            <a:avLst>
              <a:gd name="adj" fmla="val 50000"/>
            </a:avLst>
          </a:prstGeom>
          <a:solidFill>
            <a:srgbClr val="278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4920" y="16002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85a0"/>
                </a:solidFill>
                <a:latin typeface="Arial"/>
              </a:rPr>
              <a:t>Reaction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4760" y="51768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ATP As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0:02:51Z</dcterms:created>
  <dc:creator/>
  <dc:description/>
  <dc:language>en-US</dc:language>
  <cp:lastModifiedBy>A</cp:lastModifiedBy>
  <cp:lastPrinted>2004-09-14T06:36:06Z</cp:lastPrinted>
  <dcterms:modified xsi:type="dcterms:W3CDTF">2010-03-10T09:21:15Z</dcterms:modified>
  <cp:revision>579</cp:revision>
  <dc:subject/>
  <dc:title>PowerPoint-Präsentation</dc:title>
</cp:coreProperties>
</file>